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A7C-C442-40A7-BEE6-86FA981F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929B-21ED-4417-815B-4C8C41C5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D48-7210-4D53-A60C-B8BDB326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29920"/>
            <a:ext cx="250236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85000"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546-2883-423A-A4BD-D85FD075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87F-047C-4594-AF57-D694AE85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D81-4C07-46D6-BFF0-A737E2CC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A1D-B6C9-4776-8D75-78BDCCA8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10E-36CF-4B80-A600-EF201437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10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4E8-E0D5-442F-A6F7-25B2E107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39D-DBB4-4536-A523-DC1EB142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2992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321-21A6-4B26-A8CA-E69F08C6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2400" cy="1962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EA7-3B85-485F-B0A5-BDA73968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ctr">
            <a:noAutofit/>
          </a:bodyPr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rmAutofit fontScale="67000"/>
          </a:bodyPr>
          <a:p>
            <a:pPr marL="334800" indent="-3348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040" indent="-27828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564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40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8080" indent="-22320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636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133200" rIns="133200" tIns="66600" bIns="66600" anchor="t">
            <a:noAutofit/>
          </a:bodyPr>
          <a:lstStyle>
            <a:lvl1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fld id="{BAF93D6B-76AA-4B4C-BA52-F073E4F9919E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33920" y="0"/>
            <a:ext cx="4510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920" y="966960"/>
            <a:ext cx="550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0320" y="2766960"/>
            <a:ext cx="55224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38640" y="958680"/>
            <a:ext cx="550800" cy="22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576760" y="1968480"/>
            <a:ext cx="7920" cy="1898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1135080"/>
            <a:ext cx="367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6840" y="2227320"/>
            <a:ext cx="15793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62200" y="2503440"/>
            <a:ext cx="13078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200" y="4495680"/>
            <a:ext cx="12621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327560" cy="5867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920" y="1600200"/>
            <a:ext cx="3808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914400"/>
            <a:ext cx="4190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1676520"/>
            <a:ext cx="0" cy="19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76200" y="238752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92760" y="44449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320" y="2405160"/>
            <a:ext cx="8380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320" y="1066680"/>
            <a:ext cx="83808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640" y="0"/>
            <a:ext cx="432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monitorinit1" descr=""/>
          <p:cNvPicPr/>
          <p:nvPr/>
        </p:nvPicPr>
        <p:blipFill>
          <a:blip r:embed="rId1"/>
          <a:stretch/>
        </p:blipFill>
        <p:spPr>
          <a:xfrm>
            <a:off x="2884320" y="1128600"/>
            <a:ext cx="3373560" cy="4599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495680" y="2514600"/>
            <a:ext cx="914400" cy="457200"/>
          </a:xfrm>
          <a:prstGeom prst="ellipse">
            <a:avLst/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274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990720"/>
            <a:ext cx="6858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762120" y="1828800"/>
            <a:ext cx="9360" cy="213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2480" y="2133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518328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37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71520" y="1017720"/>
            <a:ext cx="1228680" cy="277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85920" y="1855800"/>
            <a:ext cx="9360" cy="2133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9080" y="2160720"/>
            <a:ext cx="140544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Resul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98960" y="5205240"/>
            <a:ext cx="13554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3200" rIns="133200" tIns="66600" bIns="66600" anchor="t">
            <a:spAutoFit/>
          </a:bodyPr>
          <a:p>
            <a:pPr>
              <a:tabLst>
                <a:tab algn="l" pos="0"/>
                <a:tab algn="l" pos="1332000"/>
                <a:tab algn="l" pos="2664000"/>
                <a:tab algn="l" pos="3995640"/>
                <a:tab algn="l" pos="5327640"/>
                <a:tab algn="l" pos="6659640"/>
                <a:tab algn="l" pos="7991640"/>
                <a:tab algn="l" pos="9323280"/>
                <a:tab algn="l" pos="10655280"/>
              </a:tabLst>
            </a:pPr>
            <a:r>
              <a:rPr b="0" lang="de-DE" sz="3500" spc="-1" strike="noStrike">
                <a:solidFill>
                  <a:srgbClr val="ff3300"/>
                </a:solidFill>
                <a:latin typeface="Times New Roman"/>
              </a:rPr>
              <a:t>Detai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0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40" y="1401840"/>
            <a:ext cx="552600" cy="230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370160"/>
            <a:ext cx="62892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8400" y="1397160"/>
            <a:ext cx="858600" cy="226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160" y="2563920"/>
            <a:ext cx="1066680" cy="253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532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6264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7467480" cy="2666160"/>
            <a:chOff x="0" y="0"/>
            <a:chExt cx="7467480" cy="2666160"/>
          </a:xfrm>
        </p:grpSpPr>
        <p:sp>
          <p:nvSpPr>
            <p:cNvPr id="71" name=""/>
            <p:cNvSpPr/>
            <p:nvPr/>
          </p:nvSpPr>
          <p:spPr>
            <a:xfrm>
              <a:off x="497772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11440" y="836640"/>
              <a:ext cx="921240" cy="916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35480" bIns="-73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476040" y="551520"/>
              <a:ext cx="418680" cy="1198080"/>
              <a:chOff x="6476040" y="551520"/>
              <a:chExt cx="418680" cy="119808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6511680" y="8229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23920" y="11109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657840" y="5515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6643080" y="7704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643440" y="11242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608520" y="11242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476040" y="15055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23920" y="8985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98440" y="5515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741000" y="666720"/>
              <a:ext cx="418680" cy="1198080"/>
              <a:chOff x="6741000" y="666720"/>
              <a:chExt cx="418680" cy="119808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6776640" y="9381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8880" y="12261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22800" y="6667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908040" y="8856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908400" y="12394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6873480" y="12394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6741000" y="16207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88880" y="10137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63400" y="6667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6836400" y="1218240"/>
              <a:ext cx="1368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3840" bIns="-129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94120" y="1139040"/>
              <a:ext cx="1335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98600" y="1246320"/>
              <a:ext cx="1371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8896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6760" y="13057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10840" y="133704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00840" y="1337040"/>
              <a:ext cx="1371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34080" y="1142640"/>
              <a:ext cx="508680" cy="3571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026720" bIns="-102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7772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89400" y="2099160"/>
              <a:ext cx="248796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2099160"/>
              <a:ext cx="2489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17200" bIns="-817200" anchor="t">
              <a:normAutofit/>
            </a:bodyPr>
            <a:p>
              <a:pPr algn="ctr">
                <a:spcBef>
                  <a:spcPts val="1026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89400" y="0"/>
              <a:ext cx="248796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0"/>
              <a:ext cx="2489400" cy="20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2099160"/>
              <a:ext cx="746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666160"/>
              <a:ext cx="7467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383840" bIns="-138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8940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77720" y="0"/>
              <a:ext cx="0" cy="266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67480" y="0"/>
              <a:ext cx="0" cy="2666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1282320" bIns="128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2099160"/>
              <a:ext cx="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817200" bIns="-81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0"/>
              <a:ext cx="0" cy="2099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715320" bIns="715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70080" y="357120"/>
              <a:ext cx="418680" cy="1198080"/>
              <a:chOff x="370080" y="357120"/>
              <a:chExt cx="418680" cy="119808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405720" y="628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7960" y="916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51880" y="357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37120" y="57600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37480" y="92988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02560" y="92988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70080" y="1311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7960" y="704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2480" y="35712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5840" y="483840"/>
              <a:ext cx="418680" cy="1198080"/>
              <a:chOff x="645840" y="483840"/>
              <a:chExt cx="418680" cy="1198080"/>
            </a:xfrm>
          </p:grpSpPr>
          <p:sp>
            <p:nvSpPr>
              <p:cNvPr id="126" name=""/>
              <p:cNvSpPr/>
              <p:nvPr/>
            </p:nvSpPr>
            <p:spPr>
              <a:xfrm flipH="1">
                <a:off x="681480" y="7552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3720" y="10432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27640" y="4838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812880" y="7027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3240" y="10566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778320" y="10566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45840" y="14378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3720" y="8308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8240" y="4838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910800" y="599040"/>
              <a:ext cx="418680" cy="1198080"/>
              <a:chOff x="910800" y="599040"/>
              <a:chExt cx="418680" cy="119808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946440" y="870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58680" y="115848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92600" y="599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077840" y="81792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78200" y="1171800"/>
                <a:ext cx="182520" cy="62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520" bIns="-75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043280" y="1171800"/>
                <a:ext cx="50040" cy="39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000" bIns="-9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910800" y="155304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58680" y="946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33200" y="599040"/>
                <a:ext cx="29628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4960" bIns="-1164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374840" y="9878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1200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4736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83080" y="1114920"/>
              <a:ext cx="13680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0240" y="1114920"/>
              <a:ext cx="135360" cy="131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0960" bIns="-129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1200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4736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83080" y="1246320"/>
              <a:ext cx="13680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20240" y="1246320"/>
              <a:ext cx="135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1291680" bIns="-129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3981600" y="500040"/>
              <a:ext cx="418680" cy="1197360"/>
              <a:chOff x="3981600" y="500040"/>
              <a:chExt cx="418680" cy="1197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4017240" y="77148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029480" y="105912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63400" y="50004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148640" y="7185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49000" y="1072440"/>
                <a:ext cx="18252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114080" y="10724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981600" y="14533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29480" y="84708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04000" y="500040"/>
                <a:ext cx="29628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247280" y="615240"/>
              <a:ext cx="416880" cy="1197360"/>
              <a:chOff x="4247280" y="615240"/>
              <a:chExt cx="416880" cy="119736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4282560" y="886680"/>
                <a:ext cx="18900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94440" y="1174320"/>
                <a:ext cx="27360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28000" y="615240"/>
                <a:ext cx="16776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4413240" y="833760"/>
                <a:ext cx="70200" cy="38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520" bIns="-100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13600" y="1187640"/>
                <a:ext cx="181800" cy="624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880" bIns="-75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378680" y="1187640"/>
                <a:ext cx="50040" cy="39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90360" bIns="-990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4247280" y="1568520"/>
                <a:ext cx="13608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94440" y="962280"/>
                <a:ext cx="11880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68960" y="615240"/>
                <a:ext cx="295200" cy="21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65320" bIns="-116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27400" y="1004040"/>
              <a:ext cx="748440" cy="475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907920" bIns="-90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20240" y="526680"/>
              <a:ext cx="484920" cy="1198440"/>
              <a:chOff x="2820240" y="526680"/>
              <a:chExt cx="484920" cy="1198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2856240" y="79884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68120" y="1086840"/>
                <a:ext cx="274680" cy="232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02040" y="527040"/>
                <a:ext cx="168120" cy="233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960" bIns="-1218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987280" y="745560"/>
                <a:ext cx="7020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1160" bIns="-100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987640" y="1099440"/>
                <a:ext cx="18252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952720" y="109944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820240" y="1480680"/>
                <a:ext cx="136440" cy="233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68120" y="87444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931480" y="552240"/>
                <a:ext cx="30924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3057840" y="745560"/>
                <a:ext cx="247320" cy="64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19760" bIns="-1319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3227760" y="526680"/>
                <a:ext cx="60480" cy="25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26440" bIns="-112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3459600" y="329040"/>
              <a:ext cx="3312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720" bIns="-82872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5314680" y="591120"/>
              <a:ext cx="638640" cy="1198080"/>
              <a:chOff x="5314680" y="591120"/>
              <a:chExt cx="638640" cy="11980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5350320" y="862560"/>
                <a:ext cx="18972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69720" bIns="-126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62200" y="1150560"/>
                <a:ext cx="274680" cy="233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560" bIns="-1150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96120" y="591120"/>
                <a:ext cx="168120" cy="232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18600" bIns="-1218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5481720" y="809640"/>
                <a:ext cx="70560" cy="38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000800" bIns="-100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481720" y="1163520"/>
                <a:ext cx="182880" cy="625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758160" bIns="-75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446800" y="1163520"/>
                <a:ext cx="50040" cy="394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989640" bIns="-989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314680" y="1545120"/>
                <a:ext cx="136440" cy="23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0920" bIns="-1150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62200" y="938160"/>
                <a:ext cx="1191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155600" bIns="-1155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5425920" y="615960"/>
                <a:ext cx="308880" cy="1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255320" bIns="-1255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552280" y="874080"/>
                <a:ext cx="401040" cy="5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661120" rIns="2661120" tIns="-1326240" bIns="-1326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954040" y="380520"/>
              <a:ext cx="2725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828000" bIns="-828000" anchor="t">
              <a:noAutofit/>
            </a:bodyPr>
            <a:p>
              <a:pPr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de-DE" sz="47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11440" y="849240"/>
              <a:ext cx="936720" cy="90072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746640" bIns="-74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88760" y="809640"/>
              <a:ext cx="993600" cy="979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661120" rIns="2661120" tIns="-690480" bIns="-690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00640" y="991440"/>
              <a:ext cx="3837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61480" rIns="2661480" tIns="-768600" bIns="-76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2000"/>
                  <a:tab algn="l" pos="2664000"/>
                  <a:tab algn="l" pos="3995640"/>
                  <a:tab algn="l" pos="5327640"/>
                  <a:tab algn="l" pos="6659640"/>
                  <a:tab algn="l" pos="7991640"/>
                  <a:tab algn="l" pos="9323280"/>
                  <a:tab algn="l" pos="10655280"/>
                </a:tabLst>
              </a:pPr>
              <a:r>
                <a:rPr b="1" lang="en-US" sz="5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00200" y="3124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133720" y="1295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2743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7400" y="12952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7560" y="1673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7920" y="2587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905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810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819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3543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133720" y="3543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55240" y="33526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p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65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52520" y="32655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2332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3265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514600" y="3265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85040" y="3087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14600" y="1905120"/>
            <a:ext cx="129528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1905120"/>
            <a:ext cx="129564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817720"/>
            <a:ext cx="4494240" cy="30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09:30:19Z</dcterms:created>
  <dc:creator>d025762</dc:creator>
  <dc:description/>
  <dc:language>en-US</dc:language>
  <cp:lastModifiedBy>d025762</cp:lastModifiedBy>
  <dcterms:modified xsi:type="dcterms:W3CDTF">2004-09-13T09:07:00Z</dcterms:modified>
  <cp:revision>22</cp:revision>
  <dc:subject/>
  <dc:title>PowerPoint-Präsentation</dc:title>
</cp:coreProperties>
</file>