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36520" y="0"/>
            <a:ext cx="8896320" cy="6845400"/>
            <a:chOff x="236520" y="0"/>
            <a:chExt cx="8896320" cy="6845400"/>
          </a:xfrm>
        </p:grpSpPr>
        <p:sp>
          <p:nvSpPr>
            <p:cNvPr id="1" name=""/>
            <p:cNvSpPr/>
            <p:nvPr/>
          </p:nvSpPr>
          <p:spPr>
            <a:xfrm>
              <a:off x="236520" y="0"/>
              <a:ext cx="237960" cy="68454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100000">
                  <a:srgbClr val="acacac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439560" y="0"/>
              <a:ext cx="372960" cy="46674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100000">
                  <a:srgbClr val="acacac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22200" y="0"/>
              <a:ext cx="1082520" cy="335268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100000">
                  <a:srgbClr val="acacac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06440" y="0"/>
              <a:ext cx="304920" cy="3886200"/>
            </a:xfrm>
            <a:prstGeom prst="rect">
              <a:avLst/>
            </a:prstGeom>
            <a:gradFill rotWithShape="0">
              <a:gsLst>
                <a:gs pos="0">
                  <a:srgbClr val="05174b"/>
                </a:gs>
                <a:gs pos="100000">
                  <a:srgbClr val="114ffb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92200" y="1467000"/>
              <a:ext cx="525600" cy="1219320"/>
            </a:xfrm>
            <a:prstGeom prst="rect">
              <a:avLst/>
            </a:prstGeom>
            <a:gradFill rotWithShape="0">
              <a:gsLst>
                <a:gs pos="0">
                  <a:srgbClr val="4b000c"/>
                </a:gs>
                <a:gs pos="100000">
                  <a:srgbClr val="fc0128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07960" y="1409760"/>
              <a:ext cx="8624880" cy="1332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100000">
                  <a:srgbClr val="acacac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36520" y="1409760"/>
              <a:ext cx="8896320" cy="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"/>
          <p:cNvSpPr txBox="1"/>
          <p:nvPr/>
        </p:nvSpPr>
        <p:spPr>
          <a:xfrm>
            <a:off x="90360" y="6499080"/>
            <a:ext cx="49863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200" spc="-1" strike="noStrike">
                <a:solidFill>
                  <a:srgbClr val="cecece"/>
                </a:solidFill>
                <a:latin typeface="Arial"/>
                <a:ea typeface="Arial"/>
              </a:rPr>
              <a:t>Winsock 2 - Generic API Extensions and Operating Framework Grou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 txBox="1"/>
          <p:nvPr/>
        </p:nvSpPr>
        <p:spPr>
          <a:xfrm>
            <a:off x="7097760" y="6485040"/>
            <a:ext cx="282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fld id="{7693EBE0-4A47-4CEF-B04A-C79FF844FD5A}" type="datetime">
              <a:rPr b="0" i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 txBox="1"/>
          <p:nvPr/>
        </p:nvSpPr>
        <p:spPr>
          <a:xfrm>
            <a:off x="8670960" y="6485040"/>
            <a:ext cx="382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fld id="{E5DB0EBB-698F-4825-B7C1-DE8FF38A05A4}" type="slidenum">
              <a:rPr b="0" i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8380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Socket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523880" y="2133720"/>
            <a:ext cx="6400800" cy="32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 joint meeting of the </a:t>
            </a:r>
            <a:br>
              <a:rPr sz="3200"/>
            </a:br>
            <a:r>
              <a:rPr b="1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Operating Framework </a:t>
            </a:r>
            <a:br>
              <a:rPr sz="1800"/>
            </a:b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nd </a:t>
            </a:r>
            <a:br>
              <a:rPr sz="3200"/>
            </a:br>
            <a:r>
              <a:rPr b="1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Generic API Extensions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functionality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cember 12, 199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chnical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3200" spc="-1" strike="noStrike">
                <a:solidFill>
                  <a:srgbClr val="cecece"/>
                </a:solidFill>
                <a:latin typeface="Arial"/>
                <a:ea typeface="Arial"/>
              </a:rPr>
              <a:t>Requirements 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ew Features by Categ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Font typeface="Symbol"/>
              <a:buChar char=""/>
            </a:pPr>
            <a:r>
              <a:rPr b="0" i="1" lang="en-US" sz="2800" spc="-1" strike="noStrike">
                <a:solidFill>
                  <a:srgbClr val="fc0128"/>
                </a:solidFill>
                <a:latin typeface="Arial"/>
                <a:ea typeface="Arial"/>
              </a:rPr>
              <a:t>Simultaneous access to multiple transport provi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cecece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cecece"/>
                </a:solidFill>
                <a:latin typeface="Arial"/>
                <a:ea typeface="Arial"/>
              </a:rPr>
              <a:t>Latency and throughput enhanc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cecece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cecece"/>
                </a:solidFill>
                <a:latin typeface="Arial"/>
                <a:ea typeface="Arial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cecece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cecece"/>
                </a:solidFill>
                <a:latin typeface="Arial"/>
                <a:ea typeface="Arial"/>
              </a:rPr>
              <a:t>Generic functionality exten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3200" spc="-1" strike="noStrike">
                <a:solidFill>
                  <a:srgbClr val="cecece"/>
                </a:solidFill>
                <a:latin typeface="Arial"/>
                <a:ea typeface="Arial"/>
              </a:rPr>
              <a:t>Open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762120" y="2286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ultaneous access to multiple transport provid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P discovery and usag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ndardized Winsock2 D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rvice Provider Interfaces (16 and 32 bi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762120" y="2286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ple Simultaneous Protocols: A Paradigm Shif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Old: well-known socket types and protocol 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pps hard coded to certain protos because of their well-known attribu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ew: don’t care about socket type and protocol va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pps select protos on the basis of their attributes - need not be hard code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762120" y="2286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ple Protocols from an</a:t>
            </a:r>
            <a:br>
              <a:rPr sz="4400"/>
            </a:b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’s 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914400" y="18288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lient / Server app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ervers listen on all suitable protoc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ients connect using any suitable protoc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ddress discovery via WS2 name re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eer to peer ap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ddress book contains typed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xample: phone #, TCP/IP addr, ATM add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 suitable protocols that match address type (i.e. address famil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oosing One or More Protoc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SAEnumProtocols(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put: filter (optional), buffer, buffer leng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utput: filled in buffer, revised buffer leng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ROTOCOL_INFO stru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ne per protocol (usuall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cribes protocol attributes and behavi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upplies all params needed for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cket()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or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SASocket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tocol Attribu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523880" y="2470320"/>
            <a:ext cx="7075440" cy="29527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 txBox="1"/>
          <p:nvPr/>
        </p:nvSpPr>
        <p:spPr>
          <a:xfrm>
            <a:off x="1660680" y="1766880"/>
            <a:ext cx="24764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ervice Fl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127160" y="5576760"/>
            <a:ext cx="75945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ots of space reserved for future expa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tocol Attributes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523880" y="2165400"/>
            <a:ext cx="7126200" cy="19828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1660680" y="1690560"/>
            <a:ext cx="3030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arameter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143000" y="40384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ulti-behaviored Protoc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ne PROTOCOL_INFO entry per 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ll entries have same Protocol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cket type used to distingu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sock 2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438280" y="1676520"/>
            <a:ext cx="1295280" cy="762120"/>
          </a:xfrm>
          <a:prstGeom prst="rect">
            <a:avLst/>
          </a:prstGeom>
          <a:gradFill rotWithShape="0">
            <a:gsLst>
              <a:gs pos="0">
                <a:srgbClr val="114ffb"/>
              </a:gs>
              <a:gs pos="100000">
                <a:srgbClr val="05174b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2590920" y="1774800"/>
            <a:ext cx="9907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2743200"/>
            <a:ext cx="609624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447920" y="2484360"/>
            <a:ext cx="8380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P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438280" y="4419720"/>
            <a:ext cx="609624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447920" y="4160880"/>
            <a:ext cx="8380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P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438280" y="2971800"/>
            <a:ext cx="6019920" cy="1143000"/>
          </a:xfrm>
          <a:prstGeom prst="rect">
            <a:avLst/>
          </a:prstGeom>
          <a:gradFill rotWithShape="0">
            <a:gsLst>
              <a:gs pos="0">
                <a:srgbClr val="009688"/>
              </a:gs>
              <a:gs pos="100000">
                <a:srgbClr val="002d28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2590920" y="3094200"/>
            <a:ext cx="571500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ock 2 D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(Wind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446200" y="4648320"/>
            <a:ext cx="1897200" cy="1143000"/>
          </a:xfrm>
          <a:prstGeom prst="rect">
            <a:avLst/>
          </a:prstGeom>
          <a:gradFill rotWithShape="0">
            <a:gsLst>
              <a:gs pos="0">
                <a:srgbClr val="fc0128"/>
              </a:gs>
              <a:gs pos="100000">
                <a:srgbClr val="000000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2590920" y="4770360"/>
            <a:ext cx="16765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rovi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03600" y="4648320"/>
            <a:ext cx="1897200" cy="1143000"/>
          </a:xfrm>
          <a:prstGeom prst="rect">
            <a:avLst/>
          </a:prstGeom>
          <a:gradFill rotWithShape="0">
            <a:gsLst>
              <a:gs pos="0">
                <a:srgbClr val="fc0128"/>
              </a:gs>
              <a:gs pos="100000">
                <a:srgbClr val="000000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648320" y="4770360"/>
            <a:ext cx="16765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rovi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561000" y="4648320"/>
            <a:ext cx="1897200" cy="1143000"/>
          </a:xfrm>
          <a:prstGeom prst="rect">
            <a:avLst/>
          </a:prstGeom>
          <a:gradFill rotWithShape="0">
            <a:gsLst>
              <a:gs pos="0">
                <a:srgbClr val="fc0128"/>
              </a:gs>
              <a:gs pos="100000">
                <a:srgbClr val="000000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6705720" y="4770360"/>
            <a:ext cx="16765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rovi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1676520"/>
            <a:ext cx="1295280" cy="762120"/>
          </a:xfrm>
          <a:prstGeom prst="rect">
            <a:avLst/>
          </a:prstGeom>
          <a:gradFill rotWithShape="0">
            <a:gsLst>
              <a:gs pos="0">
                <a:srgbClr val="114ffb"/>
              </a:gs>
              <a:gs pos="100000">
                <a:srgbClr val="05174b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191120" y="1774800"/>
            <a:ext cx="9907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1676520"/>
            <a:ext cx="1295280" cy="762120"/>
          </a:xfrm>
          <a:prstGeom prst="rect">
            <a:avLst/>
          </a:prstGeom>
          <a:gradFill rotWithShape="0">
            <a:gsLst>
              <a:gs pos="0">
                <a:srgbClr val="114ffb"/>
              </a:gs>
              <a:gs pos="100000">
                <a:srgbClr val="05174b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715000" y="1774800"/>
            <a:ext cx="9907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162920" y="1676520"/>
            <a:ext cx="1295280" cy="762120"/>
          </a:xfrm>
          <a:prstGeom prst="rect">
            <a:avLst/>
          </a:prstGeom>
          <a:gradFill rotWithShape="0">
            <a:gsLst>
              <a:gs pos="0">
                <a:srgbClr val="114ffb"/>
              </a:gs>
              <a:gs pos="100000">
                <a:srgbClr val="05174b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7315200" y="1774800"/>
            <a:ext cx="9907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762120" y="2286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I Concepts </a:t>
            </a:r>
            <a:br>
              <a:rPr sz="4400"/>
            </a:b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S2SPI.DOC, section 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One winsock2 DLL per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hin winsock2 DLL routes to provi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rchitectural freedom for provi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rovider 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rovider handles any necessary buff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762120" y="2286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-Bit vs. 16-Bit SPI (WS2SPI.DOC, section 2.7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ces minimized; portability maxim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locking models diff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Handle management di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217332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9:00 - 9:30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rrivals and Introd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217332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9:30 - 9:45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eeting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217332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9:45 - 10:00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rief Historical Backg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217332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0:00 - 12:00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echnical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217332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2:00 - 1:00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Lunch Bre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217332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:00 - 2:30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echnical Presen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217332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2:30 - 3:00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ex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217332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3:00 - ???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General Q&amp;A / Feedb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762120" y="2286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tallation APIs </a:t>
            </a:r>
            <a:br>
              <a:rPr sz="4400"/>
            </a:b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S2SPI.DOC, section 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PUInstallProvider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PUDeinstallProvider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o not install files; only inform winsock2 D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bstract storage of config inf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762120" y="2286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lper Upcalls </a:t>
            </a:r>
            <a:br>
              <a:rPr sz="4400"/>
            </a:b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S2SPI.DOC, section 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hread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read 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Queue APC/call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Handl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reation of unique socket hand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chnical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3200" spc="-1" strike="noStrike">
                <a:solidFill>
                  <a:srgbClr val="cecece"/>
                </a:solidFill>
                <a:latin typeface="Arial"/>
                <a:ea typeface="Arial"/>
              </a:rPr>
              <a:t>Requirements 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ew Features by Categ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cecece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cecece"/>
                </a:solidFill>
                <a:latin typeface="Arial"/>
                <a:ea typeface="Arial"/>
              </a:rPr>
              <a:t>Simultaneous access to multiple transport provi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Font typeface="Symbol"/>
              <a:buChar char=""/>
            </a:pPr>
            <a:r>
              <a:rPr b="0" i="1" lang="en-US" sz="2800" spc="-1" strike="noStrike">
                <a:solidFill>
                  <a:srgbClr val="fc0128"/>
                </a:solidFill>
                <a:latin typeface="Arial"/>
                <a:ea typeface="Arial"/>
              </a:rPr>
              <a:t>Latency and throughput enhanc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cecece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cecece"/>
                </a:solidFill>
                <a:latin typeface="Arial"/>
                <a:ea typeface="Arial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cecece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cecece"/>
                </a:solidFill>
                <a:latin typeface="Arial"/>
                <a:ea typeface="Arial"/>
              </a:rPr>
              <a:t>Generic functionality exten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3200" spc="-1" strike="noStrike">
                <a:solidFill>
                  <a:srgbClr val="cecece"/>
                </a:solidFill>
                <a:latin typeface="Arial"/>
                <a:ea typeface="Arial"/>
              </a:rPr>
              <a:t>Open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762120" y="2286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tency and throughput enhanc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Overlapped socket op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nd and recv from within preemptive contex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efficient notification: events, APCs, callba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verlapped I/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Fewer data buffer cop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ultiple simultaneous pending I/O requests per soc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hread-safe callback mechanism in preemptive environ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Flexible notification options (APCs or event objec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ification Mechanis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lect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SAAsyncSelect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SAEventSelect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PCs and event objects (overlapped i/o comple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chnical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3200" spc="-1" strike="noStrike">
                <a:solidFill>
                  <a:srgbClr val="cecece"/>
                </a:solidFill>
                <a:latin typeface="Arial"/>
                <a:ea typeface="Arial"/>
              </a:rPr>
              <a:t>Requirements 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ew Features by Categ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cecece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cecece"/>
                </a:solidFill>
                <a:latin typeface="Arial"/>
                <a:ea typeface="Arial"/>
              </a:rPr>
              <a:t>Simultaneous access to multiple transport provi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cecece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cecece"/>
                </a:solidFill>
                <a:latin typeface="Arial"/>
                <a:ea typeface="Arial"/>
              </a:rPr>
              <a:t>Latency and throughput enhanc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Font typeface="Symbol"/>
              <a:buChar char=""/>
            </a:pPr>
            <a:r>
              <a:rPr b="0" i="1" lang="en-US" sz="2800" spc="-1" strike="noStrike">
                <a:solidFill>
                  <a:srgbClr val="fc0128"/>
                </a:solidFill>
                <a:latin typeface="Arial"/>
                <a:ea typeface="Arial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cecece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cecece"/>
                </a:solidFill>
                <a:latin typeface="Arial"/>
                <a:ea typeface="Arial"/>
              </a:rPr>
              <a:t>Generic functionality exten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3200" spc="-1" strike="noStrike">
                <a:solidFill>
                  <a:srgbClr val="cecece"/>
                </a:solidFill>
                <a:latin typeface="Arial"/>
                <a:ea typeface="Arial"/>
              </a:rPr>
              <a:t>Open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ality of Serv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Flow spe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ocket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ocket priorit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low Spe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ag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haracteristics of a uni-directional f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pps request and networks resp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p QOS Name to Flow Spe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incident on connection set-up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query established Flow Spe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et notified for any cha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low Spec (continue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ategories of Flow Spec parame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andwidth (peak, average, burst lengt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atency (end-to-end delay, delay vari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evel of service guarant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rovider-specific param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762120" y="2286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chnical Presentation</a:t>
            </a:r>
            <a:br>
              <a:rPr sz="4400"/>
            </a:b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equirements 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ew Features by Categ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imultaneous access to multiple transport provi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atency and throughput enhanc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eneric functionality exten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Open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"/>
          <p:cNvGrpSpPr/>
          <p:nvPr/>
        </p:nvGrpSpPr>
        <p:grpSpPr>
          <a:xfrm>
            <a:off x="3124080" y="2514600"/>
            <a:ext cx="4038480" cy="533520"/>
            <a:chOff x="3124080" y="2514600"/>
            <a:chExt cx="4038480" cy="533520"/>
          </a:xfrm>
        </p:grpSpPr>
        <p:sp>
          <p:nvSpPr>
            <p:cNvPr id="169" name=""/>
            <p:cNvSpPr/>
            <p:nvPr/>
          </p:nvSpPr>
          <p:spPr>
            <a:xfrm>
              <a:off x="3124080" y="2514600"/>
              <a:ext cx="4038480" cy="533520"/>
            </a:xfrm>
            <a:prstGeom prst="rect">
              <a:avLst/>
            </a:prstGeom>
            <a:solidFill>
              <a:srgbClr val="e5405d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 txBox="1"/>
            <p:nvPr/>
          </p:nvSpPr>
          <p:spPr>
            <a:xfrm>
              <a:off x="4098960" y="2575080"/>
              <a:ext cx="2149560" cy="457200"/>
            </a:xfrm>
            <a:prstGeom prst="rect">
              <a:avLst/>
            </a:prstGeom>
            <a:solidFill>
              <a:srgbClr val="e5405d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i="1" lang="en-US" sz="2400" spc="-1" strike="noStrike">
                  <a:solidFill>
                    <a:srgbClr val="8cf4ea"/>
                  </a:solidFill>
                  <a:latin typeface="Arial"/>
                  <a:ea typeface="Arial"/>
                </a:rPr>
                <a:t>Winsock2.DL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 txBox="1"/>
          <p:nvPr/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mple: Winsock 2.0 over AT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95480" y="3276720"/>
            <a:ext cx="2057400" cy="990720"/>
          </a:xfrm>
          <a:prstGeom prst="rect">
            <a:avLst/>
          </a:prstGeom>
          <a:solidFill>
            <a:srgbClr val="063de8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419720" y="4343400"/>
            <a:ext cx="1905120" cy="609480"/>
          </a:xfrm>
          <a:prstGeom prst="rect">
            <a:avLst/>
          </a:prstGeom>
          <a:solidFill>
            <a:srgbClr val="fe9b03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400800" y="3276720"/>
            <a:ext cx="1143000" cy="1676520"/>
          </a:xfrm>
          <a:prstGeom prst="rect">
            <a:avLst/>
          </a:prstGeom>
          <a:solidFill>
            <a:srgbClr val="fc0128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4038480" y="1676520"/>
            <a:ext cx="1981080" cy="533520"/>
            <a:chOff x="4038480" y="1676520"/>
            <a:chExt cx="1981080" cy="533520"/>
          </a:xfrm>
        </p:grpSpPr>
        <p:sp>
          <p:nvSpPr>
            <p:cNvPr id="176" name=""/>
            <p:cNvSpPr/>
            <p:nvPr/>
          </p:nvSpPr>
          <p:spPr>
            <a:xfrm>
              <a:off x="4038480" y="1676520"/>
              <a:ext cx="1981080" cy="533520"/>
            </a:xfrm>
            <a:prstGeom prst="rect">
              <a:avLst/>
            </a:prstGeom>
            <a:solidFill>
              <a:srgbClr val="e5405d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 txBox="1"/>
            <p:nvPr/>
          </p:nvSpPr>
          <p:spPr>
            <a:xfrm>
              <a:off x="4556160" y="1736640"/>
              <a:ext cx="879480" cy="457200"/>
            </a:xfrm>
            <a:prstGeom prst="rect">
              <a:avLst/>
            </a:prstGeom>
            <a:solidFill>
              <a:srgbClr val="e5405d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i="1" lang="en-US" sz="2400" spc="-1" strike="noStrike">
                  <a:solidFill>
                    <a:srgbClr val="8cf4ea"/>
                  </a:solidFill>
                  <a:latin typeface="Arial"/>
                  <a:ea typeface="Arial"/>
                </a:rPr>
                <a:t>Ap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2819520" y="2438280"/>
            <a:ext cx="472428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819520" y="3124080"/>
            <a:ext cx="472428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2117880" y="2193840"/>
            <a:ext cx="674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2400" spc="-1" strike="noStrike">
                <a:solidFill>
                  <a:srgbClr val="8cf4ea"/>
                </a:solidFill>
                <a:latin typeface="Arial"/>
                <a:ea typeface="Arial"/>
              </a:rPr>
              <a:t>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2117880" y="2879640"/>
            <a:ext cx="674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2400" spc="-1" strike="noStrike">
                <a:solidFill>
                  <a:srgbClr val="8cf4ea"/>
                </a:solidFill>
                <a:latin typeface="Arial"/>
                <a:ea typeface="Arial"/>
              </a:rPr>
              <a:t>S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4114800" y="5638680"/>
            <a:ext cx="2438280" cy="762120"/>
            <a:chOff x="4114800" y="5638680"/>
            <a:chExt cx="2438280" cy="762120"/>
          </a:xfrm>
        </p:grpSpPr>
        <p:sp>
          <p:nvSpPr>
            <p:cNvPr id="183" name=""/>
            <p:cNvSpPr/>
            <p:nvPr/>
          </p:nvSpPr>
          <p:spPr>
            <a:xfrm>
              <a:off x="4114800" y="5638680"/>
              <a:ext cx="2438280" cy="533520"/>
            </a:xfrm>
            <a:prstGeom prst="rect">
              <a:avLst/>
            </a:prstGeom>
            <a:solidFill>
              <a:srgbClr val="00279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410080" y="6172200"/>
              <a:ext cx="1143000" cy="228600"/>
            </a:xfrm>
            <a:prstGeom prst="rect">
              <a:avLst/>
            </a:prstGeom>
            <a:blipFill rotWithShape="0">
              <a:blip r:embed="rId1"/>
              <a:tile tx="0" ty="0" sx="133018" sy="133018" algn="ctr"/>
            </a:blip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 txBox="1"/>
            <p:nvPr/>
          </p:nvSpPr>
          <p:spPr>
            <a:xfrm>
              <a:off x="4556160" y="5745240"/>
              <a:ext cx="172260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i="1" lang="en-US" sz="2000" spc="-1" strike="noStrike">
                  <a:solidFill>
                    <a:srgbClr val="8cf4ea"/>
                  </a:solidFill>
                  <a:latin typeface="Arial"/>
                  <a:ea typeface="Arial"/>
                </a:rPr>
                <a:t>ATM Networ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"/>
          <p:cNvSpPr txBox="1"/>
          <p:nvPr/>
        </p:nvSpPr>
        <p:spPr>
          <a:xfrm>
            <a:off x="3489480" y="3611520"/>
            <a:ext cx="1082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2000" spc="-1" strike="noStrike">
                <a:solidFill>
                  <a:srgbClr val="8cf4ea"/>
                </a:solidFill>
                <a:latin typeface="Arial"/>
                <a:ea typeface="Arial"/>
              </a:rPr>
              <a:t>TCP/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784760" y="4319640"/>
            <a:ext cx="1311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800" spc="-1" strike="noStrike">
                <a:solidFill>
                  <a:srgbClr val="8cf4ea"/>
                </a:solidFill>
                <a:latin typeface="Arial"/>
                <a:ea typeface="Arial"/>
              </a:rPr>
              <a:t>L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1800" spc="-1" strike="noStrike">
                <a:solidFill>
                  <a:srgbClr val="8cf4ea"/>
                </a:solidFill>
                <a:latin typeface="Arial"/>
                <a:ea typeface="Arial"/>
              </a:rPr>
              <a:t>Em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114800" y="5105520"/>
            <a:ext cx="2438280" cy="45720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861080" y="5135400"/>
            <a:ext cx="6634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2000" spc="-1" strike="noStrike">
                <a:solidFill>
                  <a:srgbClr val="8cf4ea"/>
                </a:solidFill>
                <a:latin typeface="Arial"/>
                <a:ea typeface="Arial"/>
              </a:rPr>
              <a:t>A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461280" y="3763800"/>
            <a:ext cx="11160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2000" spc="-1" strike="noStrike">
                <a:solidFill>
                  <a:srgbClr val="8cf4ea"/>
                </a:solidFill>
                <a:latin typeface="Arial"/>
                <a:ea typeface="Arial"/>
              </a:rPr>
              <a:t>Nu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2000" spc="-1" strike="noStrike">
                <a:solidFill>
                  <a:srgbClr val="8cf4ea"/>
                </a:solidFill>
                <a:latin typeface="Arial"/>
                <a:ea typeface="Arial"/>
              </a:rPr>
              <a:t>Protoc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895480" y="4343400"/>
            <a:ext cx="1447920" cy="609480"/>
          </a:xfrm>
          <a:prstGeom prst="rect">
            <a:avLst/>
          </a:prstGeom>
          <a:solidFill>
            <a:srgbClr val="fe9b03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2879640" y="4319640"/>
            <a:ext cx="14540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800" spc="-1" strike="noStrike">
                <a:solidFill>
                  <a:srgbClr val="8cf4ea"/>
                </a:solidFill>
                <a:latin typeface="Arial"/>
                <a:ea typeface="Arial"/>
              </a:rPr>
              <a:t>IP over A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1800" spc="-1" strike="noStrike">
                <a:solidFill>
                  <a:srgbClr val="8cf4ea"/>
                </a:solidFill>
                <a:latin typeface="Arial"/>
                <a:ea typeface="Arial"/>
              </a:rPr>
              <a:t>(RFC 157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029200" y="3276720"/>
            <a:ext cx="1295280" cy="990720"/>
          </a:xfrm>
          <a:prstGeom prst="rect">
            <a:avLst/>
          </a:prstGeom>
          <a:solidFill>
            <a:srgbClr val="8901f3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5165640" y="3633840"/>
            <a:ext cx="10731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800" spc="-1" strike="noStrike">
                <a:solidFill>
                  <a:srgbClr val="8cf4ea"/>
                </a:solidFill>
                <a:latin typeface="Arial"/>
                <a:ea typeface="Arial"/>
              </a:rPr>
              <a:t>IPX/SP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cket Grou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stablish relationship for a particular set of sock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ocket group created/joined at  connection set-up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Group QOS maps to the underlying c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elative priorities among sockets within a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chnical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3200" spc="-1" strike="noStrike">
                <a:solidFill>
                  <a:srgbClr val="cecece"/>
                </a:solidFill>
                <a:latin typeface="Arial"/>
                <a:ea typeface="Arial"/>
              </a:rPr>
              <a:t>Requirements 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ew Features by Categ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cecece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cecece"/>
                </a:solidFill>
                <a:latin typeface="Arial"/>
                <a:ea typeface="Arial"/>
              </a:rPr>
              <a:t>Simultaneous access to multiple transport provi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cecece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cecece"/>
                </a:solidFill>
                <a:latin typeface="Arial"/>
                <a:ea typeface="Arial"/>
              </a:rPr>
              <a:t>Latency and throughput enhanc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cecece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cecece"/>
                </a:solidFill>
                <a:latin typeface="Arial"/>
                <a:ea typeface="Arial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Font typeface="Symbol"/>
              <a:buChar char=""/>
            </a:pPr>
            <a:r>
              <a:rPr b="0" i="1" lang="en-US" sz="2800" spc="-1" strike="noStrike">
                <a:solidFill>
                  <a:srgbClr val="fc0128"/>
                </a:solidFill>
                <a:latin typeface="Arial"/>
                <a:ea typeface="Arial"/>
              </a:rPr>
              <a:t>Generic functionality exten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3200" spc="-1" strike="noStrike">
                <a:solidFill>
                  <a:srgbClr val="cecece"/>
                </a:solidFill>
                <a:latin typeface="Arial"/>
                <a:ea typeface="Arial"/>
              </a:rPr>
              <a:t>Open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eric functionality exten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hared sock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nection establish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nditional Accep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xchange of user to user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i-directional flags  parameter in receive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ared Sock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ingle socket with multiple hand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SADuplicateSocket()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to cre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arameter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socket hand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stination task hand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turns: socket handle valid only in context of destination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PC needed to get destination task handle and to supply new socket hand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ared Sockets (con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/O must be coordinated by ap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tification is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ndependent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o each hand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ocket options and ioctl’s are comm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ditional Accept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SAAccept()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condition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124080" y="2895480"/>
            <a:ext cx="0" cy="3353040"/>
          </a:xfrm>
          <a:prstGeom prst="line">
            <a:avLst/>
          </a:prstGeom>
          <a:ln w="38160">
            <a:solidFill>
              <a:srgbClr val="8cf4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715000" y="2895480"/>
            <a:ext cx="0" cy="3429000"/>
          </a:xfrm>
          <a:prstGeom prst="line">
            <a:avLst/>
          </a:prstGeom>
          <a:ln w="38160">
            <a:solidFill>
              <a:srgbClr val="8cf4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584360" y="3063960"/>
            <a:ext cx="124128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1) Incoming</a:t>
            </a:r>
            <a:br>
              <a:rPr sz="1400"/>
            </a:br>
            <a:r>
              <a:rPr b="0" i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    connection</a:t>
            </a:r>
            <a:br>
              <a:rPr sz="1400"/>
            </a:br>
            <a:r>
              <a:rPr b="0" i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    requ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1660680" y="2490840"/>
            <a:ext cx="1022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800" spc="-1" strike="noStrike" u="sng">
                <a:solidFill>
                  <a:srgbClr val="114ffb"/>
                </a:solidFill>
                <a:uFillTx/>
                <a:latin typeface="Arial"/>
                <a:ea typeface="Arial"/>
              </a:rPr>
              <a:t>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489480" y="2490840"/>
            <a:ext cx="18669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800" spc="-1" strike="noStrike" u="sng">
                <a:solidFill>
                  <a:srgbClr val="114ffb"/>
                </a:solidFill>
                <a:uFillTx/>
                <a:latin typeface="Arial"/>
                <a:ea typeface="Arial"/>
              </a:rPr>
              <a:t>Winsock 2 + S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84960" y="2490840"/>
            <a:ext cx="1301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800" spc="-1" strike="noStrike" u="sng">
                <a:solidFill>
                  <a:srgbClr val="114ffb"/>
                </a:solidFill>
                <a:uFillTx/>
                <a:latin typeface="Arial"/>
                <a:ea typeface="Arial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630600" y="3170160"/>
            <a:ext cx="18842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2) send FD_ACCEPT</a:t>
            </a:r>
            <a:br>
              <a:rPr sz="1400"/>
            </a:br>
            <a:r>
              <a:rPr b="0" i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    message to ap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6156360" y="3679920"/>
            <a:ext cx="2287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3) App calls 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WSAAccept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641760" y="4289400"/>
            <a:ext cx="17654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4) invoke app’s</a:t>
            </a:r>
            <a:br>
              <a:rPr sz="1400"/>
            </a:br>
            <a:r>
              <a:rPr b="0" i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    condition fun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156360" y="4365720"/>
            <a:ext cx="2585880" cy="94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5) Condition function handl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- whether to acce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- socket grouping and Q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- user-to-user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718080" y="5127480"/>
            <a:ext cx="1774800" cy="94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6) condition function</a:t>
            </a:r>
            <a:br>
              <a:rPr sz="1400"/>
            </a:br>
            <a:r>
              <a:rPr b="0" i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    retur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7) accept, reject or</a:t>
            </a:r>
            <a:br>
              <a:rPr sz="1400"/>
            </a:br>
            <a:r>
              <a:rPr b="0" i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    def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1508040" y="5965920"/>
            <a:ext cx="1211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8) ack or na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232680" y="5965920"/>
            <a:ext cx="2120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9) 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WSAAccept()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 retur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743200" y="3276720"/>
            <a:ext cx="838080" cy="152280"/>
          </a:xfrm>
          <a:prstGeom prst="line">
            <a:avLst/>
          </a:prstGeom>
          <a:ln w="1260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181480" y="3733920"/>
            <a:ext cx="838440" cy="152280"/>
          </a:xfrm>
          <a:prstGeom prst="line">
            <a:avLst/>
          </a:prstGeom>
          <a:ln w="1260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4572000" y="4038480"/>
            <a:ext cx="1752480" cy="228600"/>
          </a:xfrm>
          <a:prstGeom prst="line">
            <a:avLst/>
          </a:prstGeom>
          <a:ln w="1260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4495680"/>
            <a:ext cx="1143000" cy="304920"/>
          </a:xfrm>
          <a:prstGeom prst="line">
            <a:avLst/>
          </a:prstGeom>
          <a:ln w="1260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4952880" y="4952880"/>
            <a:ext cx="1447920" cy="152640"/>
          </a:xfrm>
          <a:prstGeom prst="line">
            <a:avLst/>
          </a:prstGeom>
          <a:ln w="1260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2514600" y="5715000"/>
            <a:ext cx="1143000" cy="304920"/>
          </a:xfrm>
          <a:prstGeom prst="line">
            <a:avLst/>
          </a:prstGeom>
          <a:ln w="1260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800600" y="5867280"/>
            <a:ext cx="1371600" cy="228600"/>
          </a:xfrm>
          <a:prstGeom prst="line">
            <a:avLst/>
          </a:prstGeom>
          <a:ln w="1260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changing Connect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upport for user data exchange during connect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itiator uses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SAConnect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pplies buffers for inbound and outbound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bound buffer only valid after FD_CONN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stener uses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SAAccept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ndition function used to get/supply buff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nly works if supported by protoco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king recv flags IN 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‘MORE’ flag by some protoc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ock 1.1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ecv()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nd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ecvfrom()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have flags parameter as INPUT on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SARecv()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and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SARecvFrom()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lags parameter is IN 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able by both overlapped and regular soc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chnical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3200" spc="-1" strike="noStrike">
                <a:solidFill>
                  <a:srgbClr val="cecece"/>
                </a:solidFill>
                <a:latin typeface="Arial"/>
                <a:ea typeface="Arial"/>
              </a:rPr>
              <a:t>Requirements 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i="1" lang="en-US" sz="3200" spc="-1" strike="noStrike">
                <a:solidFill>
                  <a:srgbClr val="cecece"/>
                </a:solidFill>
                <a:latin typeface="Arial"/>
                <a:ea typeface="Arial"/>
              </a:rPr>
              <a:t>	</a:t>
            </a:r>
            <a:r>
              <a:rPr b="0" i="1" lang="en-US" sz="3200" spc="-1" strike="noStrike">
                <a:solidFill>
                  <a:srgbClr val="cecece"/>
                </a:solidFill>
                <a:latin typeface="Arial"/>
                <a:ea typeface="Arial"/>
              </a:rPr>
              <a:t>New Features by Categ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cecece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cecece"/>
                </a:solidFill>
                <a:latin typeface="Arial"/>
                <a:ea typeface="Arial"/>
              </a:rPr>
              <a:t>Simultaneous access to multiple transport provi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cecece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cecece"/>
                </a:solidFill>
                <a:latin typeface="Arial"/>
                <a:ea typeface="Arial"/>
              </a:rPr>
              <a:t>Latency and throughput enhanc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cecece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cecece"/>
                </a:solidFill>
                <a:latin typeface="Arial"/>
                <a:ea typeface="Arial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cecece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cecece"/>
                </a:solidFill>
                <a:latin typeface="Arial"/>
                <a:ea typeface="Arial"/>
              </a:rPr>
              <a:t>Generic functionality exten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Open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eting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eport on a joint effort to produce core elements of a strawman spe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nswer questions and solicit feedb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oal: API and SPI specs published by Christ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efine the process for moving 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ock 2 forw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o we need scatter/gath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hould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SASocket()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ake a PROTOCOL_INFO struct as inpu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o we need independent notification on shared socke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 Issues (con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hould our two groups be merg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llect your comments and feedb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pdate the API and SPI doc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ose as many “opens” as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ublish docs, slides, meeting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via anonymous ftp and the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one by Christ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repare for presentation to WS2 Review Boards in Janu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4876920" y="1752480"/>
            <a:ext cx="3581280" cy="1066680"/>
          </a:xfrm>
          <a:prstGeom prst="rect">
            <a:avLst/>
          </a:prstGeom>
          <a:solidFill>
            <a:srgbClr val="8cf4ea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So, what do you thin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&amp;A / Feedb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3122640" y="2062080"/>
            <a:ext cx="2868480" cy="40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"/>
          <p:cNvGrpSpPr/>
          <p:nvPr/>
        </p:nvGrpSpPr>
        <p:grpSpPr>
          <a:xfrm>
            <a:off x="1647720" y="255600"/>
            <a:ext cx="6529320" cy="6264360"/>
            <a:chOff x="1647720" y="255600"/>
            <a:chExt cx="6529320" cy="6264360"/>
          </a:xfrm>
        </p:grpSpPr>
        <p:pic>
          <p:nvPicPr>
            <p:cNvPr id="243" name="" descr=""/>
            <p:cNvPicPr/>
            <p:nvPr/>
          </p:nvPicPr>
          <p:blipFill>
            <a:blip r:embed="rId1"/>
            <a:stretch/>
          </p:blipFill>
          <p:spPr>
            <a:xfrm>
              <a:off x="1655640" y="255600"/>
              <a:ext cx="6521400" cy="434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" descr=""/>
            <p:cNvPicPr/>
            <p:nvPr/>
          </p:nvPicPr>
          <p:blipFill>
            <a:blip r:embed="rId2"/>
            <a:stretch/>
          </p:blipFill>
          <p:spPr>
            <a:xfrm>
              <a:off x="1647720" y="4610160"/>
              <a:ext cx="2465280" cy="1909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45" name=""/>
            <p:cNvGrpSpPr/>
            <p:nvPr/>
          </p:nvGrpSpPr>
          <p:grpSpPr>
            <a:xfrm>
              <a:off x="2763720" y="2320920"/>
              <a:ext cx="1301400" cy="781560"/>
              <a:chOff x="2763720" y="2320920"/>
              <a:chExt cx="1301400" cy="781560"/>
            </a:xfrm>
          </p:grpSpPr>
          <p:sp>
            <p:nvSpPr>
              <p:cNvPr id="246" name=""/>
              <p:cNvSpPr/>
              <p:nvPr/>
            </p:nvSpPr>
            <p:spPr>
              <a:xfrm>
                <a:off x="3332160" y="2733840"/>
                <a:ext cx="732960" cy="368640"/>
              </a:xfrm>
              <a:custGeom>
                <a:avLst/>
                <a:gdLst/>
                <a:ahLst/>
                <a:rect l="0" t="0" r="r" b="b"/>
                <a:pathLst>
                  <a:path fill="none" w="2036" h="1024">
                    <a:moveTo>
                      <a:pt x="0" y="0"/>
                    </a:moveTo>
                    <a:lnTo>
                      <a:pt x="0" y="0"/>
                    </a:lnTo>
                    <a:cubicBezTo>
                      <a:pt x="0" y="180"/>
                      <a:pt x="94" y="356"/>
                      <a:pt x="273" y="512"/>
                    </a:cubicBezTo>
                    <a:cubicBezTo>
                      <a:pt x="451" y="668"/>
                      <a:pt x="708" y="797"/>
                      <a:pt x="1018" y="887"/>
                    </a:cubicBezTo>
                    <a:cubicBezTo>
                      <a:pt x="1328" y="977"/>
                      <a:pt x="1679" y="1024"/>
                      <a:pt x="2036" y="1024"/>
                    </a:cubicBezTo>
                  </a:path>
                </a:pathLst>
              </a:custGeom>
              <a:ln w="152280">
                <a:solidFill>
                  <a:srgbClr val="ffffff"/>
                </a:solidFill>
                <a:round/>
              </a:ln>
            </p:spPr>
            <p:txBody>
              <a:bodyPr lIns="165960" rIns="165960" tIns="120960" bIns="12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763720" y="2320920"/>
                <a:ext cx="673560" cy="377280"/>
              </a:xfrm>
              <a:custGeom>
                <a:avLst/>
                <a:gdLst/>
                <a:ahLst/>
                <a:rect l="0" t="0" r="r" b="b"/>
                <a:pathLst>
                  <a:path fill="none" w="1871" h="1048">
                    <a:moveTo>
                      <a:pt x="1871" y="1048"/>
                    </a:moveTo>
                    <a:lnTo>
                      <a:pt x="1871" y="1048"/>
                    </a:lnTo>
                    <a:lnTo>
                      <a:pt x="1871" y="1048"/>
                    </a:lnTo>
                    <a:cubicBezTo>
                      <a:pt x="1871" y="864"/>
                      <a:pt x="1785" y="683"/>
                      <a:pt x="1620" y="524"/>
                    </a:cubicBezTo>
                    <a:cubicBezTo>
                      <a:pt x="1456" y="365"/>
                      <a:pt x="1220" y="232"/>
                      <a:pt x="935" y="140"/>
                    </a:cubicBezTo>
                    <a:cubicBezTo>
                      <a:pt x="651" y="48"/>
                      <a:pt x="328" y="0"/>
                      <a:pt x="0" y="0"/>
                    </a:cubicBezTo>
                  </a:path>
                </a:pathLst>
              </a:custGeom>
              <a:ln w="152280">
                <a:solidFill>
                  <a:srgbClr val="ffffff"/>
                </a:solidFill>
                <a:round/>
              </a:ln>
            </p:spPr>
            <p:txBody>
              <a:bodyPr lIns="165960" rIns="165960" tIns="120960" bIns="12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8" name=""/>
            <p:cNvSpPr/>
            <p:nvPr/>
          </p:nvSpPr>
          <p:spPr>
            <a:xfrm>
              <a:off x="2936880" y="4167360"/>
              <a:ext cx="3666960" cy="0"/>
            </a:xfrm>
            <a:prstGeom prst="line">
              <a:avLst/>
            </a:prstGeom>
            <a:ln w="2030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91520" rIns="191520" tIns="-146520" bIns="-146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694400" y="3478320"/>
              <a:ext cx="0" cy="703080"/>
            </a:xfrm>
            <a:prstGeom prst="line">
              <a:avLst/>
            </a:prstGeom>
            <a:ln w="1522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65960" rIns="165960" tIns="120960" bIns="12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 txBox="1"/>
            <p:nvPr/>
          </p:nvSpPr>
          <p:spPr>
            <a:xfrm>
              <a:off x="4408560" y="4195800"/>
              <a:ext cx="590400" cy="338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116680" y="2952720"/>
              <a:ext cx="1641960" cy="914760"/>
            </a:xfrm>
            <a:custGeom>
              <a:avLst/>
              <a:gdLst/>
              <a:ahLst/>
              <a:rect l="0" t="0" r="r" b="b"/>
              <a:pathLst>
                <a:path w="4561" h="2541">
                  <a:moveTo>
                    <a:pt x="0" y="0"/>
                  </a:moveTo>
                  <a:lnTo>
                    <a:pt x="1895" y="775"/>
                  </a:lnTo>
                  <a:lnTo>
                    <a:pt x="1323" y="853"/>
                  </a:lnTo>
                  <a:lnTo>
                    <a:pt x="2981" y="1532"/>
                  </a:lnTo>
                  <a:lnTo>
                    <a:pt x="2251" y="1552"/>
                  </a:lnTo>
                  <a:lnTo>
                    <a:pt x="4561" y="2541"/>
                  </a:lnTo>
                  <a:lnTo>
                    <a:pt x="1619" y="1493"/>
                  </a:lnTo>
                  <a:lnTo>
                    <a:pt x="2389" y="1416"/>
                  </a:lnTo>
                  <a:lnTo>
                    <a:pt x="671" y="736"/>
                  </a:lnTo>
                  <a:lnTo>
                    <a:pt x="1461" y="69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 txBox="1"/>
            <p:nvPr/>
          </p:nvSpPr>
          <p:spPr>
            <a:xfrm>
              <a:off x="2789280" y="3027240"/>
              <a:ext cx="907920" cy="338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C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 txBox="1"/>
            <p:nvPr/>
          </p:nvSpPr>
          <p:spPr>
            <a:xfrm>
              <a:off x="5548320" y="2541600"/>
              <a:ext cx="1517760" cy="338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LEPH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078520" y="1983600"/>
              <a:ext cx="841680" cy="570960"/>
            </a:xfrm>
            <a:custGeom>
              <a:avLst/>
              <a:gdLst/>
              <a:ahLst/>
              <a:rect l="0" t="0" r="r" b="b"/>
              <a:pathLst>
                <a:path fill="none" w="2338" h="1586">
                  <a:moveTo>
                    <a:pt x="0" y="1586"/>
                  </a:moveTo>
                  <a:lnTo>
                    <a:pt x="0" y="1586"/>
                  </a:lnTo>
                  <a:cubicBezTo>
                    <a:pt x="410" y="1586"/>
                    <a:pt x="814" y="1513"/>
                    <a:pt x="1169" y="1374"/>
                  </a:cubicBezTo>
                  <a:cubicBezTo>
                    <a:pt x="1524" y="1234"/>
                    <a:pt x="1820" y="1034"/>
                    <a:pt x="2025" y="793"/>
                  </a:cubicBezTo>
                  <a:cubicBezTo>
                    <a:pt x="2230" y="552"/>
                    <a:pt x="2338" y="278"/>
                    <a:pt x="2338" y="0"/>
                  </a:cubicBezTo>
                </a:path>
              </a:pathLst>
            </a:custGeom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811840" y="2001960"/>
              <a:ext cx="225360" cy="22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168960" y="1963800"/>
              <a:ext cx="241560" cy="168480"/>
            </a:xfrm>
            <a:custGeom>
              <a:avLst/>
              <a:gdLst/>
              <a:ahLst/>
              <a:rect l="0" t="0" r="r" b="b"/>
              <a:pathLst>
                <a:path fill="none" w="671" h="468">
                  <a:moveTo>
                    <a:pt x="0" y="468"/>
                  </a:moveTo>
                  <a:lnTo>
                    <a:pt x="0" y="468"/>
                  </a:lnTo>
                  <a:cubicBezTo>
                    <a:pt x="118" y="468"/>
                    <a:pt x="233" y="446"/>
                    <a:pt x="336" y="405"/>
                  </a:cubicBezTo>
                  <a:cubicBezTo>
                    <a:pt x="438" y="364"/>
                    <a:pt x="522" y="305"/>
                    <a:pt x="581" y="234"/>
                  </a:cubicBezTo>
                  <a:cubicBezTo>
                    <a:pt x="640" y="163"/>
                    <a:pt x="671" y="82"/>
                    <a:pt x="671" y="0"/>
                  </a:cubicBezTo>
                </a:path>
              </a:pathLst>
            </a:custGeom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7" name=""/>
            <p:cNvGrpSpPr/>
            <p:nvPr/>
          </p:nvGrpSpPr>
          <p:grpSpPr>
            <a:xfrm>
              <a:off x="6321600" y="1925640"/>
              <a:ext cx="179280" cy="495360"/>
              <a:chOff x="6321600" y="1925640"/>
              <a:chExt cx="179280" cy="495360"/>
            </a:xfrm>
          </p:grpSpPr>
          <p:sp>
            <p:nvSpPr>
              <p:cNvPr id="258" name=""/>
              <p:cNvSpPr/>
              <p:nvPr/>
            </p:nvSpPr>
            <p:spPr>
              <a:xfrm>
                <a:off x="6400800" y="1925640"/>
                <a:ext cx="27000" cy="495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6321600" y="1955880"/>
                <a:ext cx="179280" cy="190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txBody>
              <a:bodyPr lIns="102600" rIns="1026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6321600" y="1994040"/>
                <a:ext cx="177840" cy="158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txBody>
              <a:bodyPr lIns="102600" rIns="1026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5938920" y="1967760"/>
              <a:ext cx="242640" cy="167760"/>
            </a:xfrm>
            <a:custGeom>
              <a:avLst/>
              <a:gdLst/>
              <a:ahLst/>
              <a:rect l="0" t="0" r="r" b="b"/>
              <a:pathLst>
                <a:path fill="none" w="674" h="466">
                  <a:moveTo>
                    <a:pt x="0" y="0"/>
                  </a:moveTo>
                  <a:lnTo>
                    <a:pt x="0" y="0"/>
                  </a:lnTo>
                  <a:cubicBezTo>
                    <a:pt x="0" y="82"/>
                    <a:pt x="31" y="162"/>
                    <a:pt x="90" y="233"/>
                  </a:cubicBezTo>
                  <a:cubicBezTo>
                    <a:pt x="149" y="304"/>
                    <a:pt x="235" y="363"/>
                    <a:pt x="337" y="404"/>
                  </a:cubicBezTo>
                  <a:cubicBezTo>
                    <a:pt x="439" y="444"/>
                    <a:pt x="556" y="466"/>
                    <a:pt x="674" y="466"/>
                  </a:cubicBezTo>
                </a:path>
              </a:pathLst>
            </a:custGeom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913360" y="1913040"/>
              <a:ext cx="34920" cy="635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811840" y="1955880"/>
              <a:ext cx="227160" cy="20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 txBox="1"/>
            <p:nvPr/>
          </p:nvSpPr>
          <p:spPr>
            <a:xfrm>
              <a:off x="6446880" y="3451320"/>
              <a:ext cx="1314360" cy="338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IREL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5" name="" descr=""/>
            <p:cNvPicPr/>
            <p:nvPr/>
          </p:nvPicPr>
          <p:blipFill>
            <a:blip r:embed="rId3"/>
            <a:stretch/>
          </p:blipFill>
          <p:spPr>
            <a:xfrm>
              <a:off x="3757680" y="4486320"/>
              <a:ext cx="3763800" cy="177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" descr=""/>
            <p:cNvPicPr/>
            <p:nvPr/>
          </p:nvPicPr>
          <p:blipFill>
            <a:blip r:embed="rId4"/>
            <a:stretch/>
          </p:blipFill>
          <p:spPr>
            <a:xfrm>
              <a:off x="3692520" y="1981080"/>
              <a:ext cx="1712880" cy="147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4154400" y="2109960"/>
              <a:ext cx="804960" cy="55872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8" name="" descr=""/>
            <p:cNvPicPr/>
            <p:nvPr/>
          </p:nvPicPr>
          <p:blipFill>
            <a:blip r:embed="rId5"/>
            <a:stretch/>
          </p:blipFill>
          <p:spPr>
            <a:xfrm>
              <a:off x="4216320" y="2131920"/>
              <a:ext cx="731880" cy="466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Brief Historical 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How the strawman team came to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tiv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ork methods and time sp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chnical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114ffb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c0128"/>
                </a:solidFill>
                <a:latin typeface="Arial"/>
                <a:ea typeface="Arial"/>
              </a:rPr>
              <a:t>Requirements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2800" spc="-1" strike="noStrike">
                <a:solidFill>
                  <a:srgbClr val="cecece"/>
                </a:solidFill>
                <a:latin typeface="Arial"/>
                <a:ea typeface="Arial"/>
              </a:rPr>
              <a:t>New Features by Categ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cecece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cecece"/>
                </a:solidFill>
                <a:latin typeface="Arial"/>
                <a:ea typeface="Arial"/>
              </a:rPr>
              <a:t>Simultaneous access to multiple transport provi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cecece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cecece"/>
                </a:solidFill>
                <a:latin typeface="Arial"/>
                <a:ea typeface="Arial"/>
              </a:rPr>
              <a:t>Latency and throughput enhanc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cecece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cecece"/>
                </a:solidFill>
                <a:latin typeface="Arial"/>
                <a:ea typeface="Arial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cecece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cecece"/>
                </a:solidFill>
                <a:latin typeface="Arial"/>
                <a:ea typeface="Arial"/>
              </a:rPr>
              <a:t>Generic functionality exten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3200" spc="-1" strike="noStrike">
                <a:solidFill>
                  <a:srgbClr val="cecece"/>
                </a:solidFill>
                <a:latin typeface="Arial"/>
                <a:ea typeface="Arial"/>
              </a:rPr>
              <a:t>Open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762120" y="2286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rating Framework 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281320" y="1646280"/>
            <a:ext cx="5791320" cy="36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eric API 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78080" y="1596960"/>
            <a:ext cx="5762520" cy="50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eric API Requirements (con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397240" y="1569960"/>
            <a:ext cx="5754600" cy="519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avid B. Andersen</dc:creator>
  <dc:description/>
  <dc:language>en-US</dc:language>
  <cp:lastModifiedBy>David B. Andersen</cp:lastModifiedBy>
  <cp:revision>0</cp:revision>
  <dc:subject>Slides for December 12 mtg</dc:subject>
  <dc:title>Windows Sockets 2</dc:title>
</cp:coreProperties>
</file>