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2D35D82-4D6D-424C-982E-F38B0C0E4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3rd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November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ontreal, PQ, C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Nov 10,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 TBD Intermec scouting for Everett,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510876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PAR processing</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pproval for 802.1 standard(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Gb PAR, input from other group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and presentation of Technical Submiss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riteria and requirement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Multipath (Channel Model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ompatibility/Co- Existe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Evaluation proces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HIPERLAN type 1 tutorial Tue afterno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Attend Mon eve tutorial of HIPERLAN to 80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chedule confirmation</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 PHY   |           |     !Techn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Model  |   TGb     |TGb  !Plen  |     TGb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ing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 Plenary  |           |Full 802.11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incl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 t 1 |    TGa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tutorial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b?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Tutorial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AN t 1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ui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72</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from the meeting with the FCC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 for 2.4 GHz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1 802.1 PAR 97/10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2.4 GHz PAR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PAR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