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71360" y="57240"/>
            <a:ext cx="8724960" cy="6667560"/>
          </a:xfrm>
          <a:prstGeom prst="roundRect">
            <a:avLst/>
          </a:prstGeom>
          <a:noFill/>
          <a:ln w="38160">
            <a:solidFill>
              <a:srgbClr val="919191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362640"/>
            <a:ext cx="832500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31800" y="6408720"/>
            <a:ext cx="184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7905600" y="6362640"/>
            <a:ext cx="590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fld id="{8AB7477A-1EE3-4920-ABD3-BAB9EFBE5A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533520" y="1219320"/>
            <a:ext cx="7772400" cy="134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OF THE DOCUMENT</a:t>
            </a:r>
            <a:br>
              <a:rPr sz="18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-NII BAND CHANNELIZATION AND THE WINFORUM SRD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62120" y="3429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d for the Joint ETSI/BRAN and IEEE 802.11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8-12,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 OF THE DOCU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e the Objectives and Scope of the WINForum Sharing Rules Development Committee (SRD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 the SRDC Fixed Channelization Proposal for the U-NII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the Part 15 Restricted Band Rules Effect on Out-of-Band E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liminary Guard Band Calc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of the WINForum U-NII reconsideration 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s and Scope of the SRD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ain U-NII 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 with Regulatory Bodies to Set Rules for Use of the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Spectrum Sharing Rules for the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xed Channelization Propo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-NII Band Should Support Signaling Rates of 20 to 25 Mb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xed Bandwidth Potential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e Range of Potential Application Signaling Rate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Channel Spacing Required Because of Wide Signaling Rate Range and Mixed Bandwidth Incompat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ailed Technical Discussion of Mixed Bandwidth Problem in Appendix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DC Recommends Fixed Frequency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15 Restricted Band R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rage and Peak EIRP Specified by the Part 15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ower Spectral Density is Derived From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some current interpretations which are still being investig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d Edge PSD 15-16 dB More Severe Than HIPERLAN Requirements for the U-NII Middle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ificant Guard Band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liminary Guard Band Calcul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stics of Intermodulation Distortion on Widening Transmitted 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ments Given in Appendix B of the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liminary Est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 Intraband Channel Isolation Specs (30 dB PSD Adjacent Chann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to 1.3 Channels Widths of Guard Band Needed to Satisfy Restricted band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rther Study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-NII Reconsideration Pet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lemaking not fina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DC working closely with NTIA to resolve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issues addressed in reconsideration 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important 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power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 of measurement of power spectral d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denied: total power permitted 6-10 dB lower than limits spec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n Boer</dc:creator>
  <dc:description/>
  <dc:language>en-US</dc:language>
  <cp:lastModifiedBy>Jan Boer</cp:lastModifiedBy>
  <cp:revision>0</cp:revision>
  <dc:subject/>
  <dc:title>DS report</dc:title>
</cp:coreProperties>
</file>