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Sept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77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D1F90DAD-9603-426B-980D-94D3C000B1BC}"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523880"/>
            <a:ext cx="7924680" cy="133560"/>
            <a:chOff x="609480" y="1523880"/>
            <a:chExt cx="7924680" cy="133560"/>
          </a:xfrm>
        </p:grpSpPr>
        <p:sp>
          <p:nvSpPr>
            <p:cNvPr id="6" name=""/>
            <p:cNvSpPr/>
            <p:nvPr/>
          </p:nvSpPr>
          <p:spPr>
            <a:xfrm>
              <a:off x="609480" y="152388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62396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990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Titl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sues and Trade-offs in High Speed 2.4 GHz PHY</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ptember 8, 1997</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odulation and channelization</a:t>
            </a:r>
            <a:endParaRPr b="0" lang="en-US" sz="3600" spc="-1" strike="noStrike">
              <a:solidFill>
                <a:srgbClr val="000000"/>
              </a:solidFill>
              <a:latin typeface="Arial"/>
            </a:endParaRPr>
          </a:p>
        </p:txBody>
      </p:sp>
      <p:sp>
        <p:nvSpPr>
          <p:cNvPr id="6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proposed modulation format is binary GFSK at 10 and 20 Mcps with a deviation of 7 and 14  MHz peak to peak (h = 0.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10 dB bandwidth is roughly 11 and 22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modulation uses a combination of preemphasis and filtering to balance interference and multipath performance with desired spectral bandwidth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channelization plan consists of 8 channels at 10 MHz spacing with 10 Mcps, and 4 channels at 20 MHz spacing with 20 Mcps</a:t>
            </a:r>
            <a:endParaRPr b="0" lang="en-US" sz="2000" spc="-1" strike="noStrike">
              <a:solidFill>
                <a:srgbClr val="000000"/>
              </a:solidFill>
              <a:latin typeface="Arial"/>
            </a:endParaRPr>
          </a:p>
        </p:txBody>
      </p:sp>
      <p:pic>
        <p:nvPicPr>
          <p:cNvPr id="67" name="" descr=""/>
          <p:cNvPicPr/>
          <p:nvPr/>
        </p:nvPicPr>
        <p:blipFill>
          <a:blip r:embed="rId1"/>
          <a:stretch/>
        </p:blipFill>
        <p:spPr>
          <a:xfrm>
            <a:off x="984240" y="4343400"/>
            <a:ext cx="717696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opping and interoperability with 1&amp;2 Mbps FH PHY</a:t>
            </a:r>
            <a:endParaRPr b="0" lang="en-US" sz="36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opping can be synchronized to interoperate with the 1 and 2 Mbps FH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ten 1 MHz channels in each 10 MHz wideband channel and twenty in each 20 MHz wideband channe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a particular 1 MHz channel is hopped to, the wideband channel which covers that 1 MHz channel is also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1&amp;2 Mbps DS PHY</a:t>
            </a:r>
            <a:endParaRPr b="0" lang="en-US" sz="36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bandwidths proposed would be compatible with the current 11 Mcps used in 1 and 2 Mbps DS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S PHY already provides for frequency selection interface with the MAC, similar to that used by the FH PHY (sans hopping algorithm)</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proposed format can use existing DS chip sets and architecture with changes primarily in the baseband processing to have a DS/HS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1 Mbps vs high speed preamble and PLCP header</a:t>
            </a:r>
            <a:endParaRPr b="0" lang="en-US" sz="3600" spc="-1" strike="noStrike">
              <a:solidFill>
                <a:srgbClr val="000000"/>
              </a:solidFill>
              <a:latin typeface="Arial"/>
            </a:endParaRPr>
          </a:p>
        </p:txBody>
      </p:sp>
      <p:sp>
        <p:nvSpPr>
          <p:cNvPr id="73"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t is possible to use the current FH 1 Mbps preamble and switch to high speed operation after the PLCP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maining spare bit in the PLCP header could be used to indicate a x5 multiplier of the rate fiel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same tradeoffs of 1 Mbps preamble for interoperability and CCA discussed in the DS proposals app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imilar features can be made for DS pream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ecause of the bandwidth differences, it is preferable to use high speed preamble not only for overhead efficiency but also for the ability of FH/HS units to perform proper CCA on the HS sign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or FH/HS BSS’s that may be using different hop sequences and tuned to a different 1 MHz channel within the same wideband channel, a high speed preamble would be better for implementing CCA on both narrowband and wideband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ensitivity vs 1&amp;2 Mbps FH</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Eb/No required of an FSK signal with an h=0.7 is 7 dB less than the 1 Mbps FH PHY which uses an h=0.32.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ith a data rate of 5 Mbps, the noise bandwidth is 7 dB greater and the resulting signal requires a signal equal to that of the 1 Mbps FH PHY signal.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increase in bandwidth due to the DS spreading would be more than made up for in the despreading proces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us the range of the 5 Mbps mode would be equivalent to the 1 Mbps FH PHY on a signal sensitivity basis alone, but will be degraded by the increase in multipath distortion and interference susceptability.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0 Mbps would be degraded by an additional 3 dB and even wider bandwidths and thus susceptability to interference and multi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multipath</a:t>
            </a:r>
            <a:endParaRPr b="0" lang="en-US" sz="36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mentioned earlier, narrower bandwidths, availability of multiple channels, and mechanisms to automatically hop among channels are all useful means by which to combat interference and multipath.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binary GFSK modulation would allow the narrower bandwidth in the 5 Mbps mode, and the 10 Mbps would have a maximum 22 MHz bandwidth with a robust binary non-coherent FSK mod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many architectural opt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n FSK system has been the lowest cost due to the simplicity, inherent robustness, and use of nonlinear components.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many options and design optimizations which will allow manufacturers to optimize for various applications and price/performance tradeoff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tellectual property - Walsh codes and binary GFSK on wireless is probably not patentable any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eature Comparison Table</a:t>
            </a:r>
            <a:endParaRPr b="0" lang="en-US" sz="3600" spc="-1" strike="noStrike">
              <a:solidFill>
                <a:srgbClr val="000000"/>
              </a:solidFill>
              <a:latin typeface="Arial"/>
            </a:endParaRPr>
          </a:p>
        </p:txBody>
      </p:sp>
      <p:sp>
        <p:nvSpPr>
          <p:cNvPr id="81"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Featur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arri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icrilor</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ymbo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odulatio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GF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h Q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Data rat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5/11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Bandwidth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2 MHz</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2/64 (24/48?)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2 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Number of channe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3</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1 (4/2?)</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4</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FH</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D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Short preamble capabl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ax J/I</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ultipath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82" name=""/>
          <p:cNvSpPr/>
          <p:nvPr/>
        </p:nvSpPr>
        <p:spPr>
          <a:xfrm>
            <a:off x="685800" y="205740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roduction</a:t>
            </a:r>
            <a:endParaRPr b="0" lang="en-US" sz="3600" spc="-1" strike="noStrike">
              <a:solidFill>
                <a:srgbClr val="000000"/>
              </a:solidFill>
              <a:latin typeface="Arial"/>
            </a:endParaRPr>
          </a:p>
        </p:txBody>
      </p:sp>
      <p:sp>
        <p:nvSpPr>
          <p:cNvPr id="49"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sues, concerns, and trade offs for a HS PHY in the 2.4 GHz band from a different viewpoint</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both FH and D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ference and need for multiple channel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ultipath</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and need for architectural option</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ur alternative proposal would more effectively address these issues+</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DS spreading format</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odulation and channelization</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Hopping and interoperability with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1&amp;2 Mbps DS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Rate switching, 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Comparison to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many architectural option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Subsequent submissions will address performance simulation/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both FH and DS</a:t>
            </a:r>
            <a:endParaRPr b="0" lang="en-US" sz="36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igh speed study group has decided in previous motions that there will be only one high speed PHY at 2.4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Given the relatively large number of installed users of  802.11 ready FH PHY systems, it would be advantageous to provide compatibility with FH PHY systems as well as DS PHY syste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bviously, given the different bandwidths of DS signals versus the 1 MHz FH PHY signals, there will be limite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it is more than feasible to design units that can accommodate wideband and narrowband signals with the right defin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sions for hopping and non-hopping will greatly enhance the ability of both FH and DS PHY to be at least partly interoperable with the high speed 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need for multiple channels</a:t>
            </a:r>
            <a:endParaRPr b="0" lang="en-US" sz="3600" spc="-1" strike="noStrike">
              <a:solidFill>
                <a:srgbClr val="000000"/>
              </a:solidFill>
              <a:latin typeface="Arial"/>
            </a:endParaRPr>
          </a:p>
        </p:txBody>
      </p:sp>
      <p:sp>
        <p:nvSpPr>
          <p:cNvPr id="53"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a manufacturer of both DS and FH systems, we have found that interference has necessitated the use of frequency agility even in DS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specially as the band got more crowded as occurred at 900 M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also happen soon in the 2.4 GHz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Having multiple channels to use should be a requirement for the high speed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aving a mechanism to hop over the channels will be a big advantage as has been shown in the FH systems fielded toda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requency selectivity can provide typically 60 to 70 dB of isolation between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irect sequence processing gain will also make the demodulator more robust because of Hamming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ultipath and Robustness vs Bandwidth</a:t>
            </a:r>
            <a:endParaRPr b="0" lang="en-US" sz="3600" spc="-1" strike="noStrike">
              <a:solidFill>
                <a:srgbClr val="000000"/>
              </a:solidFill>
              <a:latin typeface="Arial"/>
            </a:endParaRPr>
          </a:p>
        </p:txBody>
      </p:sp>
      <p:sp>
        <p:nvSpPr>
          <p:cNvPr id="55"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ultipath distortion at the wider bandwidths requires the most robust modulations to mitigate its effect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modulations are more robust than quadrature modulations, but requires twice the bandwidth</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0 Mbps would require 10 Mcps with QPSK and 8 chips/symbol and bandwidth of 2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PSK would use 20 Mcps with bandwidth of 4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SK would be in between at about 30 MHz</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6 chips/symbol would require about 60% more bandwidth, i.e., 32, 64, and 48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FSK is one of the most robust modulations as the receive capture effect approaches 0 dBc in theory</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inary GFSK also provides narrow bandwidth, e.g., a 20 Mcps FSK would have a 10 dB bandwidth approximately 22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S processing will improve multipath performance in all cases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 vs 10 Mbps preamble and PLCP header</a:t>
            </a:r>
            <a:endParaRPr b="0" lang="en-US" sz="36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option to have 1 Mbps preamble is desirable, but the high overhead makes it difficult to achieve high throughput efficiency except in large packet situation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option to be able to operate with 10 Mbps preamble, i.e., about 10% of the 1 Mbps preamble, would be necessary to meet expectations on throughput increas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Coherent QPSK operation with separate chipping sequences on I and Qwould require a longer preamble than the current DS PHY single chipping sequence (same on I and Q) over BPSK/QPS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FSK would not require a longer preamble nor would it preclud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and many architectural options</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re are many applications that could use wireless LA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applications will span a wide range of requirements except for the common requirement of the lowest cost possi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igh speed PHY should allow for optimizing architectures to provide the best price/performance poss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etter than forcing all applications to take a one size fits all solution.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increase the target market for the HS PHY beyond what would be feasible with the one size fits al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igh Speed PHY Proposal</a:t>
            </a:r>
            <a:endParaRPr b="0" lang="en-US" sz="36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 succinct summary of the proposed high speed DS PHY is as follow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S spreading:  4 bits/symbol and 8 chips/symbol bi-orthogonal Walsh cod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dulation:  Binary GFSK with deviation h=0.7; 1.5 dB preemphasi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ata rates: 1.25 Msym/sec (5 Mbps) and 2.5 Msym/sec (10 Mb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ipping rates: 10 Mcps and 20 Mc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andwidths: 11 MHz and 22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S Spreading Format</a:t>
            </a:r>
            <a:endParaRPr b="0" lang="en-US" sz="36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DS spreading formats used by Harris and Micrilor uses simple yet effective bi-orthogonal Walsh cod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8 chips per symbol used by Harris is more bandwidth efficient which is crucial to satisfy the interference fighting channelization mentioned earli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4 bits/8 chips per symbol used at 1.25 (or 1.375) Msps and at 2.5 Msps would produce 5 and 10 Mbps at a chipping rate 10 and 20 Mcps</a:t>
            </a:r>
            <a:endParaRPr b="0" lang="en-US" sz="2000" spc="-1" strike="noStrike">
              <a:solidFill>
                <a:srgbClr val="000000"/>
              </a:solidFill>
              <a:latin typeface="Arial"/>
            </a:endParaRPr>
          </a:p>
        </p:txBody>
      </p:sp>
      <p:pic>
        <p:nvPicPr>
          <p:cNvPr id="64" name="" descr=""/>
          <p:cNvPicPr/>
          <p:nvPr/>
        </p:nvPicPr>
        <p:blipFill>
          <a:blip r:embed="rId1"/>
          <a:stretch/>
        </p:blipFill>
        <p:spPr>
          <a:xfrm>
            <a:off x="1700280" y="4724280"/>
            <a:ext cx="57434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