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38088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12760" y="100080"/>
            <a:ext cx="140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42160" y="100080"/>
            <a:ext cx="2130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P802.11-97/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91440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 OF 5-GHz MOD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23800" y="431496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H. Cafa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ILOR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924520" y="241920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406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Demod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47720" y="1809720"/>
            <a:ext cx="933480" cy="22860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Walsh Symbol Corre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2722680"/>
            <a:ext cx="979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23920" y="302904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47720" y="4314960"/>
            <a:ext cx="933480" cy="22953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Walsh Symbol Corre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39840" y="5184720"/>
            <a:ext cx="949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23920" y="54673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0520" y="1809720"/>
            <a:ext cx="933480" cy="10666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itu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lar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734000" y="2897280"/>
            <a:ext cx="6508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 of Lar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594400" y="1936800"/>
            <a:ext cx="784080" cy="5079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SK 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43360" y="2190600"/>
            <a:ext cx="8762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314960" y="1163520"/>
            <a:ext cx="8668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Amplitude of Lar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746680" y="1174680"/>
            <a:ext cx="555480" cy="3556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30720" y="1352520"/>
            <a:ext cx="6415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00840" y="1542960"/>
            <a:ext cx="0" cy="4190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257880" y="1144440"/>
            <a:ext cx="8668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 Complex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458040" y="257328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43360" y="280044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737240" y="2619360"/>
            <a:ext cx="2014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6765840" y="2556000"/>
            <a:ext cx="149400" cy="1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765840" y="2727360"/>
            <a:ext cx="147600" cy="15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762600" y="25495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762600" y="2801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71840" y="18097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71840" y="19620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71840" y="21146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71840" y="22669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71840" y="241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71840" y="25718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71840" y="2724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71840" y="2876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71840" y="30290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71840" y="3181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71840" y="333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71840" y="34862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71840" y="3638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71840" y="3790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71840" y="39434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71840" y="4095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81320" y="2419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57640" y="2571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33600" y="2724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09920" y="2876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71840" y="4933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71840" y="50864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71840" y="5238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71840" y="5391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71840" y="55436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71840" y="5695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71840" y="5848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71840" y="60008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71840" y="6153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71840" y="6305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71840" y="64580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71840" y="6610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581880" y="3430440"/>
            <a:ext cx="117144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bit Demodulated Sym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71840" y="4324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71840" y="4476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71840" y="462924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71840" y="4781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09920" y="287640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33600" y="272412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81320" y="241920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57640" y="257184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130720" y="1352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62640" y="2190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429240" y="217332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76640" y="3562200"/>
            <a:ext cx="171360" cy="133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4819680"/>
            <a:ext cx="171360" cy="133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52960" y="6076800"/>
            <a:ext cx="171360" cy="133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Mbps Data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bit/symbol @ 2 Msymbol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Resi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Channels in NII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-MHz Null-Null (32 Mchip/s MS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Fall-Back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198108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Data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Frame 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Coherent: No PLL Sett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Equalizer Adaptat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Tol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red Modulation Attrib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Modulation Se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63640" y="1555920"/>
            <a:ext cx="7381800" cy="4514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08160" y="4191120"/>
            <a:ext cx="26542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width Efficient Mod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width = 1/Symbol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Amplitude 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ellation Crow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t Mod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width &gt;&gt; 1/Symbol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veforms Very Different (PM/F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ellation Points Sprea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07960" y="60948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s from Orthogon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tional Orthogonal Sig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1 of M Wav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Coh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 Bits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Arbitrary 2 of M Wave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2 M(M-1)/2 Bits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9 Bits for M=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ting, but Awkward to En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07960" y="60948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s from Orthogonal Functions</a:t>
            </a:r>
            <a:br>
              <a:rPr sz="1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7960" y="1981080"/>
            <a:ext cx="816624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d 2 of M Wave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of M/2 from 2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x3=6 Bits for M=16 (Two SubGroups of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: Structured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M Wave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of M/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l Subdivision of Walsh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/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nother Bit/SubGroup for BiOrthog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3080" y="3632040"/>
            <a:ext cx="8445600" cy="2160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Prope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5680" y="2575080"/>
            <a:ext cx="84502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ransmission</a:t>
            </a:r>
            <a:br>
              <a:rPr sz="1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of 16 plus D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24120" y="3200400"/>
            <a:ext cx="1522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955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80044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033640" y="3233880"/>
            <a:ext cx="762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ft re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825640" y="3176640"/>
            <a:ext cx="970200" cy="371520"/>
            <a:chOff x="2825640" y="3176640"/>
            <a:chExt cx="970200" cy="371520"/>
          </a:xfrm>
        </p:grpSpPr>
        <p:sp>
          <p:nvSpPr>
            <p:cNvPr id="64" name=""/>
            <p:cNvSpPr txBox="1"/>
            <p:nvPr/>
          </p:nvSpPr>
          <p:spPr>
            <a:xfrm>
              <a:off x="2825640" y="3259080"/>
              <a:ext cx="260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3454560" y="3273480"/>
              <a:ext cx="260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886120" y="3305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6120" y="330516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86120" y="34765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029040" y="3181320"/>
              <a:ext cx="352440" cy="123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3076560" y="3176640"/>
              <a:ext cx="318960" cy="162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83040" y="3338640"/>
              <a:ext cx="565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3648240" y="3306600"/>
              <a:ext cx="147600" cy="100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643200" y="3405240"/>
              <a:ext cx="147600" cy="1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648240" y="330192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3643200" y="34783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 txBox="1"/>
          <p:nvPr/>
        </p:nvSpPr>
        <p:spPr>
          <a:xfrm>
            <a:off x="3857760" y="2743200"/>
            <a:ext cx="6382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SK M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781440" y="3200400"/>
            <a:ext cx="79056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sh fn. 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352680" y="289548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0" y="4267080"/>
            <a:ext cx="99072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 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952880" y="3276720"/>
            <a:ext cx="304920" cy="304920"/>
            <a:chOff x="4952880" y="3276720"/>
            <a:chExt cx="304920" cy="304920"/>
          </a:xfrm>
        </p:grpSpPr>
        <p:sp>
          <p:nvSpPr>
            <p:cNvPr id="81" name=""/>
            <p:cNvSpPr/>
            <p:nvPr/>
          </p:nvSpPr>
          <p:spPr>
            <a:xfrm>
              <a:off x="4952880" y="3276720"/>
              <a:ext cx="3049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3429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055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57200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105520" y="35812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28954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2895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3429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15000" y="2590920"/>
            <a:ext cx="10666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Transmit 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76520" y="4191120"/>
            <a:ext cx="6382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C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343400" y="36576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ransmission</a:t>
            </a:r>
            <a:br>
              <a:rPr sz="1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times  1 of 4 plus D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47880" y="4819680"/>
            <a:ext cx="15228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19280" y="581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924200" y="5505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57400" y="4929120"/>
            <a:ext cx="762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ft re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949400" y="503064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730600" y="504504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00160" y="5248440"/>
            <a:ext cx="924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286000" y="4819680"/>
            <a:ext cx="114480" cy="290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276640" y="4819680"/>
            <a:ext cx="123840" cy="214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1320" y="511020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924280" y="5078520"/>
            <a:ext cx="147600" cy="1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919240" y="5176800"/>
            <a:ext cx="147960" cy="104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924280" y="507348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919240" y="524988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981160" y="2685960"/>
            <a:ext cx="942840" cy="3049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SK Mo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57480" y="4591080"/>
            <a:ext cx="790560" cy="990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sh fn. 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933640" y="2076480"/>
            <a:ext cx="99072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 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305240" y="2685960"/>
            <a:ext cx="304920" cy="304920"/>
            <a:chOff x="4305240" y="2685960"/>
            <a:chExt cx="304920" cy="304920"/>
          </a:xfrm>
        </p:grpSpPr>
        <p:sp>
          <p:nvSpPr>
            <p:cNvPr id="113" name=""/>
            <p:cNvSpPr/>
            <p:nvPr/>
          </p:nvSpPr>
          <p:spPr>
            <a:xfrm>
              <a:off x="4305240" y="2685960"/>
              <a:ext cx="3049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81560" y="276228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81560" y="2838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57880" y="27622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48040" y="474336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2280" y="3971880"/>
            <a:ext cx="10666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Transmit 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76440" y="2305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54560" y="558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981160" y="3143160"/>
            <a:ext cx="942840" cy="3049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SK Mo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981160" y="3600360"/>
            <a:ext cx="942840" cy="3049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SK Mo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981160" y="4057560"/>
            <a:ext cx="942840" cy="3049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SK Mo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838760" y="3143160"/>
            <a:ext cx="304920" cy="304920"/>
            <a:chOff x="4838760" y="3143160"/>
            <a:chExt cx="304920" cy="304920"/>
          </a:xfrm>
        </p:grpSpPr>
        <p:sp>
          <p:nvSpPr>
            <p:cNvPr id="125" name=""/>
            <p:cNvSpPr/>
            <p:nvPr/>
          </p:nvSpPr>
          <p:spPr>
            <a:xfrm>
              <a:off x="4838760" y="3143160"/>
              <a:ext cx="3049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15080" y="321948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15080" y="3295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91040" y="3219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72280" y="3600360"/>
            <a:ext cx="304920" cy="304920"/>
            <a:chOff x="5372280" y="3600360"/>
            <a:chExt cx="304920" cy="304920"/>
          </a:xfrm>
        </p:grpSpPr>
        <p:sp>
          <p:nvSpPr>
            <p:cNvPr id="130" name=""/>
            <p:cNvSpPr/>
            <p:nvPr/>
          </p:nvSpPr>
          <p:spPr>
            <a:xfrm>
              <a:off x="5372280" y="3600360"/>
              <a:ext cx="3049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48240" y="367668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48240" y="37530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24560" y="36766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05440" y="4057560"/>
            <a:ext cx="304920" cy="304920"/>
            <a:chOff x="5905440" y="4057560"/>
            <a:chExt cx="304920" cy="304920"/>
          </a:xfrm>
        </p:grpSpPr>
        <p:sp>
          <p:nvSpPr>
            <p:cNvPr id="135" name=""/>
            <p:cNvSpPr/>
            <p:nvPr/>
          </p:nvSpPr>
          <p:spPr>
            <a:xfrm>
              <a:off x="5905440" y="4057560"/>
              <a:ext cx="3049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81760" y="413388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81760" y="42102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58080" y="41338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24360" y="2838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32958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37530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42102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57880" y="2990880"/>
            <a:ext cx="0" cy="2761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57880" y="3314880"/>
            <a:ext cx="0" cy="409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57880" y="378144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91040" y="3781440"/>
            <a:ext cx="0" cy="3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58080" y="436248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91040" y="3448080"/>
            <a:ext cx="0" cy="2761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24560" y="3905280"/>
            <a:ext cx="0" cy="2620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48040" y="497196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48040" y="520056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48040" y="542916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57880" y="423864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91040" y="423864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24560" y="4233960"/>
            <a:ext cx="0" cy="966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171520" y="2152800"/>
            <a:ext cx="304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390840" y="5962680"/>
            <a:ext cx="304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96160" y="329580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10160" y="2838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3680" y="32958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76840" y="3753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10360" y="421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91240" y="3295800"/>
            <a:ext cx="330120" cy="126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591240" y="3619440"/>
            <a:ext cx="333360" cy="133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91240" y="2838600"/>
            <a:ext cx="419040" cy="49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591240" y="3714840"/>
            <a:ext cx="419040" cy="495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53360" y="3524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961320" y="3368520"/>
            <a:ext cx="325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24360" y="230508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058080" y="23050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058080" y="286704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058080" y="3324240"/>
            <a:ext cx="0" cy="3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058080" y="377676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524560" y="23050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524560" y="28670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524560" y="332892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457880" y="23050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991040" y="23050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991040" y="286236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25840" y="2276640"/>
            <a:ext cx="60480" cy="57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56120" y="2276640"/>
            <a:ext cx="60480" cy="57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95760" y="2279520"/>
            <a:ext cx="60480" cy="57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5040" y="2838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05040" y="3295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05040" y="3753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5040" y="421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400480" y="2838600"/>
            <a:ext cx="30456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400480" y="3295800"/>
            <a:ext cx="304560" cy="1523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400480" y="3753000"/>
            <a:ext cx="304560" cy="1066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400480" y="4210200"/>
            <a:ext cx="30456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000160" y="502452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H. Cafarella</dc:creator>
  <dc:description/>
  <dc:language>en-US</dc:language>
  <cp:lastModifiedBy>John H. Cafarella</cp:lastModifiedBy>
  <cp:revision>0</cp:revision>
  <dc:subject/>
  <dc:title>Presentation to AMD</dc:title>
</cp:coreProperties>
</file>