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828800"/>
            <a:ext cx="906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906560"/>
            <a:ext cx="72136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irman IEEE P802.11Task Grou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P802.11 Tga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 it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t ETSI-IEE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/act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6440" y="98280"/>
            <a:ext cx="227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548320" y="98280"/>
            <a:ext cx="341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 IEEE P802.11-97/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6440" y="555480"/>
            <a:ext cx="270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SI EP BRAN 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35360" y="555480"/>
            <a:ext cx="4282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G3 Temporary document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918480" y="98892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 September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137440" y="1293840"/>
            <a:ext cx="80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g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a -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&amp; Criteria Nov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for all modulation proposals by  (skeleton by Nov97/ Full text by Jan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ine for modulation proposals (Nov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method selection - March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finalization - March98+May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pproval in March98 to send WG 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ing Draft for WG LB from May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method propos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MSK/O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ary Orth. Keying (M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rthogonal waveform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 and types of traf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data rate about 20 Mbit/s + fallback rate? + highsp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data packets + Time bound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 packets may be 4095 byt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packets (RTS,CTS, ACK etc..) are typically 20 byt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for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obus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ject focuses on indoor environments, but needs to maintain robustness at longer multi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is defined for a flat channel at packet loss rate derived from a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for Comparis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slo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channe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t channel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, complexity, sensitivity to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 to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981080"/>
            <a:ext cx="853452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with other systems (in particular, how will different HIPERLANs coexis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ETSI consider PHYs with multiple rat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ETSI consider both long and short preamb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ETSI have a position on use of directional antennae? (Power vs. EIRP; multipath red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n availability of extra 50 MHz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0"/>
            <a:ext cx="777240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EEE P802.11 - ETSI BRAN WG3 meeting - September 1997 - 802.11 and TGa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li Chayat, Breeze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Group A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erm Goals for 802.11/BRAN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HY, different MA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having a common PHY sub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rove co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y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802.11 MAC devices i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MAC/PHY Mod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0" y="5105520"/>
            <a:ext cx="2438280" cy="5335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1960" y="516564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65320" y="41911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94320" y="4191120"/>
            <a:ext cx="1981080" cy="4572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604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6040" y="4876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504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84840" y="487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25800" y="4243320"/>
            <a:ext cx="1930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54800" y="4243320"/>
            <a:ext cx="194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9520" y="2971800"/>
            <a:ext cx="2590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94320" y="2971800"/>
            <a:ext cx="2590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748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96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68600" y="3138480"/>
            <a:ext cx="1933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859360" y="3138480"/>
            <a:ext cx="1971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79520" y="2316240"/>
            <a:ext cx="2590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oriented 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94320" y="2057400"/>
            <a:ext cx="26668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connectionless and time bound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800" y="4038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2960" y="42973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2960" y="3154320"/>
            <a:ext cx="853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Overview -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(Ad-Hoc) networks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structure based networks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oints connect to a 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may overlap for continuity of service or increased capa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assumes connectionles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PHYs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Radio and 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2.4 GHz, both DS and FH Spread Spectrum systems, as per ISM band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s of 1 Mbit/s and 2 Mbit/s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Group examines higher speeds at 2.4 GHz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A +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RTS/CTS before Data/ACK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and Virtual Carrier Sense as a medium sharing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Coordination Function (DCF) and Point Coordination Function (PC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bounded services are provided by PCF (Point coordination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edium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Physical and Virtual Carrier Sense are implem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Carrier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acket in a transaction advertises the time at which transaction will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ion hearing either of the sides will not transmit until the advertised time 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Group A - 5 GHz 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work in Sept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ds to produce and approve a supplement to 802.11 standard by July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es on US U-NII and European bands in 5 GHz (which overl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s about 20 Mbit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.Chayat</dc:creator>
  <dc:description/>
  <dc:language>en-US</dc:language>
  <cp:lastModifiedBy>N.Chayat</cp:lastModifiedBy>
  <cp:revision>0</cp:revision>
  <dc:subject/>
  <dc:title>802.11 TGa to ETSI BRAN presentation</dc:title>
</cp:coreProperties>
</file>