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771-FB8B-4BD2-96E0-C5036146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0E0-81EB-483C-98B8-0B82746B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5A7-1B08-4BD0-8F3B-7F3AFCC9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CD2-0A3C-4538-8984-1F7888EA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4ED1-BC4C-4644-8E8F-2BF2B40A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927-7631-4CA9-B3BC-B48AF169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099-E6E8-4AA5-8935-2D6A21EA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F690-2BF1-4F29-A4B7-E3C98475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6F80-091B-4D39-BC73-18BD2412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6CA-2B61-4644-AB38-DB3A19F7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726-1FA7-44D7-B8B1-0724C3D6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BCC-3ED6-4BE1-B671-80DEA9E4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318F-C947-4E59-A2B9-F6F61E6FF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7640" y="100188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9920" y="10778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11320" y="42782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4354560"/>
            <a:ext cx="762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11120" y="298296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11120" y="3059280"/>
            <a:ext cx="762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40120" y="40496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40120" y="41259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3840" y="10778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6120" y="11541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68920" y="2144880"/>
            <a:ext cx="6098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92960" y="21448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D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49560" y="450684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692360" y="3363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692360" y="153504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25520" y="1154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73440" y="435456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9920" y="13827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63960" y="13824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97120" y="13827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521160" y="13824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73440" y="450684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97320" y="161100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50160" y="14590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31040" y="145908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569640" y="3591720"/>
            <a:ext cx="7610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349960" y="161100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49760" y="13064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07320" y="1306440"/>
            <a:ext cx="76104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8720" y="1687680"/>
            <a:ext cx="0" cy="236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1844280" y="1002600"/>
            <a:ext cx="7621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15480" y="1154160"/>
            <a:ext cx="834120" cy="107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749400" y="1230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749400" y="115416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76680" y="614520"/>
            <a:ext cx="76212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3604320" y="469080"/>
            <a:ext cx="62280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6142961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614296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02040" y="62064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44840" y="9255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2160" y="1230480"/>
            <a:ext cx="69480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1692360" y="3898080"/>
            <a:ext cx="9730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68920" y="1230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4520" y="38210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3640" y="4964040"/>
            <a:ext cx="609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4520" y="31352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54520" y="26780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25520" y="237348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5520" y="2357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C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4520" y="3821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4520" y="3135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4520" y="2678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I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4520" y="1168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C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7400" y="2527200"/>
            <a:ext cx="556200" cy="49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69" y="49"/>
                </a:moveTo>
                <a:arcTo wR="10800" hR="10800" stAng="-5728816" swAng="6557521"/>
                <a:lnTo>
                  <a:pt x="10800" y="10800"/>
                </a:lnTo>
                <a:close/>
              </a:path>
              <a:path fill="none" w="21600" h="21600">
                <a:moveTo>
                  <a:pt x="9769" y="49"/>
                </a:moveTo>
                <a:arcTo wR="10800" hR="10800" stAng="-5728816" swAng="655752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44760" y="2449440"/>
            <a:ext cx="694800" cy="49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69" y="49"/>
                </a:moveTo>
                <a:arcTo wR="10800" hR="10800" stAng="-5728816" swAng="6557521"/>
                <a:lnTo>
                  <a:pt x="10800" y="10800"/>
                </a:lnTo>
                <a:close/>
              </a:path>
              <a:path fill="none" w="21600" h="21600">
                <a:moveTo>
                  <a:pt x="9769" y="49"/>
                </a:moveTo>
                <a:arcTo wR="10800" hR="10800" stAng="-5728816" swAng="655752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759040" y="25257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83120" y="2906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6053400" y="1517400"/>
            <a:ext cx="990000" cy="41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24"/>
                </a:moveTo>
                <a:arcTo wR="10800" hR="10800" stAng="-10743854" swAng="11079964"/>
                <a:lnTo>
                  <a:pt x="10800" y="10800"/>
                </a:lnTo>
                <a:close/>
              </a:path>
              <a:path fill="none" w="21600" h="21600">
                <a:moveTo>
                  <a:pt x="1" y="10624"/>
                </a:moveTo>
                <a:arcTo wR="10800" hR="10800" stAng="-10743854" swAng="1107996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946040" y="1710720"/>
            <a:ext cx="1431720" cy="6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24"/>
                </a:moveTo>
                <a:arcTo wR="10800" hR="10800" stAng="-10743854" swAng="11079964"/>
                <a:lnTo>
                  <a:pt x="10800" y="10800"/>
                </a:lnTo>
                <a:close/>
              </a:path>
              <a:path fill="none" w="21600" h="21600">
                <a:moveTo>
                  <a:pt x="1" y="10624"/>
                </a:moveTo>
                <a:arcTo wR="10800" hR="10800" stAng="-10743854" swAng="1107996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5515200" y="1852920"/>
            <a:ext cx="1372680" cy="27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" y="11347"/>
                </a:moveTo>
                <a:arcTo wR="10800" hR="10800" stAng="10625657" swAng="11310452"/>
                <a:lnTo>
                  <a:pt x="10800" y="10800"/>
                </a:lnTo>
                <a:close/>
              </a:path>
              <a:path fill="none" w="21600" h="21600">
                <a:moveTo>
                  <a:pt x="14" y="11347"/>
                </a:moveTo>
                <a:arcTo wR="10800" hR="10800" stAng="10625657" swAng="11310452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4520" y="13064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111720" y="13064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73640" y="4964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1269400">
            <a:off x="5522400" y="4506120"/>
            <a:ext cx="973800" cy="90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0079"/>
                </a:moveTo>
                <a:arcTo wR="10800" hR="10800" stAng="-10570300" swAng="10906409"/>
                <a:lnTo>
                  <a:pt x="10800" y="10800"/>
                </a:lnTo>
                <a:close/>
              </a:path>
              <a:path fill="none" w="21600" h="21600">
                <a:moveTo>
                  <a:pt x="24" y="10079"/>
                </a:moveTo>
                <a:arcTo wR="10800" hR="10800" stAng="-10570300" swAng="10906409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92960" y="488808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64360" y="5040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M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73640" y="-213480"/>
            <a:ext cx="925200" cy="83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5232960" y="3177360"/>
            <a:ext cx="761760" cy="83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" y="11932"/>
                </a:moveTo>
                <a:arcTo wR="10800" hR="10800" stAng="10439138" swAng="11496971"/>
                <a:lnTo>
                  <a:pt x="10800" y="10800"/>
                </a:lnTo>
                <a:close/>
              </a:path>
              <a:path fill="none" w="21600" h="21600">
                <a:moveTo>
                  <a:pt x="59" y="11932"/>
                </a:moveTo>
                <a:arcTo wR="10800" hR="10800" stAng="10439138" swAng="1149697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8560" y="321156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25720" y="2220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273640" y="163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920960" y="3945960"/>
            <a:ext cx="532800" cy="54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3902400" y="3793320"/>
            <a:ext cx="53316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149560" y="592920"/>
            <a:ext cx="53280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82720" y="772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20960" y="4201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35560" y="40496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73440" y="3897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06960" y="3897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4049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5520" y="4049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45040" y="111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59440" y="111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30440" y="620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20960" y="620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c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05400" y="2288880"/>
            <a:ext cx="53316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534840" y="2206800"/>
            <a:ext cx="685440" cy="71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25720" y="28306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02040" y="21448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02040" y="2754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49960" y="3516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73640" y="1916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59440" y="1763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45320" y="45068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427280" y="1908000"/>
            <a:ext cx="532800" cy="54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9240" y="1778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59240" y="2311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663800" y="24494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21160" y="3592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92560" y="35924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35360" y="19922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63960" y="19922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39720" y="4278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39720" y="1154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9960" y="620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40320" y="43084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2920" y="42022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87840" y="1306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92760" y="1306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21360" y="1154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64360" y="16876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21560" y="1763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78560" y="2906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416120" y="1527840"/>
            <a:ext cx="536040" cy="55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5470218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547021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30640" y="1459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02040" y="4064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HF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20960" y="4202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H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25520" y="925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02240" y="392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H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97120" y="24494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H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87840" y="2068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45240" y="1611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897200" y="5288040"/>
          <a:ext cx="324792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7200" y="5288040"/>
                    <a:ext cx="32479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221120" y="123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4840" y="478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38240" y="47520"/>
            <a:ext cx="6799320" cy="67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38240" y="44280"/>
            <a:ext cx="668484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08200" y="47520"/>
            <a:ext cx="72198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4:39:28Z</dcterms:created>
  <dc:creator>Tomas Radivoyevitch</dc:creator>
  <dc:description/>
  <dc:language>en-US</dc:language>
  <cp:lastModifiedBy>Tomas Radivoyevitch</cp:lastModifiedBy>
  <dcterms:modified xsi:type="dcterms:W3CDTF">2005-05-26T20:05:09Z</dcterms:modified>
  <cp:revision>12</cp:revision>
  <dc:subject/>
  <dc:title>Slide 1</dc:title>
</cp:coreProperties>
</file>